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029-1225-4715-A4E1-751E31B5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1A3-30E9-4A81-A7D6-F7050B56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322-47D4-4D2D-B06D-91ABEB71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935-0B64-4C94-B4DB-A8F73AD6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848C-18C0-4969-BE86-EF84AE06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5CB7-7C19-40DA-8E32-CE5559FF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A6D2-EBD7-4297-9758-E193F07B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BC3E-2710-4B13-B846-2D80A91A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EE01-3DFB-4B3E-82BE-C325D33E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167B-7CF0-4E3B-A1BE-1EF6D052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D3A2-A2A0-4F2F-8421-7937D20F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5E2-894E-4164-84F0-DCC5F7BC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A7A1-90B4-436F-994C-2ED721E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4DAE-9810-437C-9255-98516FCD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DC7A-B2FD-4DFB-B929-28BBF5FF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2D5F-A1D0-442B-911B-0AFD82B7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D167-E0B2-4CF6-8A17-25E8611E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B3F-C982-455E-BB7D-23C8E46D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5C6-D3E4-4991-A146-2E11195F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C0D-72AB-4868-8691-99EF78B2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2BB-F456-4521-992B-82658213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BEA-3EE9-4953-B852-6F9ECEB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AA7-A9DB-4FC8-BC75-1002F910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F75-5215-44C4-8747-A320677C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DCCC-7809-46CA-83AD-327863D1690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43D1-7FC7-4CE6-81ED-CEB1028E6D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2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omolecu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7086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ase elements of these molecules are C, H and O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ody stores lipids as reserve energy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function to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ulate our bod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 our bod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 us long term energy stor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are commonly known as fats, oils and wax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are made of one monomer of glycerol and 2 or 3 fatty acid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triglycerides1"/>
          <p:cNvPicPr/>
          <p:nvPr/>
        </p:nvPicPr>
        <p:blipFill>
          <a:blip r:embed="rId1"/>
          <a:stretch/>
        </p:blipFill>
        <p:spPr>
          <a:xfrm>
            <a:off x="838080" y="160020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[Phospholipid Bilayer]"/>
          <p:cNvPicPr/>
          <p:nvPr/>
        </p:nvPicPr>
        <p:blipFill>
          <a:blip r:embed="rId2"/>
          <a:stretch/>
        </p:blipFill>
        <p:spPr>
          <a:xfrm>
            <a:off x="990720" y="4495680"/>
            <a:ext cx="2857320" cy="1771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[Cholesterol]"/>
          <p:cNvPicPr/>
          <p:nvPr/>
        </p:nvPicPr>
        <p:blipFill>
          <a:blip r:embed="rId3"/>
          <a:stretch/>
        </p:blipFill>
        <p:spPr>
          <a:xfrm>
            <a:off x="4648320" y="4495680"/>
            <a:ext cx="285732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est way to test for the presence of lipids is the Brown Paper Tes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ubstance is placed on a piece of brown pap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positive test for lipid will leave an “oily” spot on the brown pap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paper_test_for_lipids"/>
          <p:cNvPicPr/>
          <p:nvPr/>
        </p:nvPicPr>
        <p:blipFill>
          <a:blip r:embed="rId1"/>
          <a:stretch/>
        </p:blipFill>
        <p:spPr>
          <a:xfrm>
            <a:off x="2209680" y="3890880"/>
            <a:ext cx="3962520" cy="296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 are the most complex and functionally diverse molecules of living organism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 compose enzymes, blood cells, antibodies and muscle tissue just to name a few and are therefore associated with meat product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base elements of proteins are C, H, O and 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onomers of proteins are 20 different amino acid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ain function of proteins is for growth and repair of tissues in the body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protein"/>
          <p:cNvPicPr/>
          <p:nvPr/>
        </p:nvPicPr>
        <p:blipFill>
          <a:blip r:embed="rId1"/>
          <a:stretch/>
        </p:blipFill>
        <p:spPr>
          <a:xfrm>
            <a:off x="1066680" y="2057400"/>
            <a:ext cx="3333960" cy="2610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676520" y="419112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o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12"/>
          <p:cNvGrpSpPr/>
          <p:nvPr/>
        </p:nvGrpSpPr>
        <p:grpSpPr>
          <a:xfrm>
            <a:off x="4724280" y="1600200"/>
            <a:ext cx="2647800" cy="3645000"/>
            <a:chOff x="4724280" y="1600200"/>
            <a:chExt cx="2647800" cy="3645000"/>
          </a:xfrm>
        </p:grpSpPr>
        <p:pic>
          <p:nvPicPr>
            <p:cNvPr id="123" name="Picture 10" descr="proteincrystal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26478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1"/>
            <p:cNvSpPr/>
            <p:nvPr/>
          </p:nvSpPr>
          <p:spPr>
            <a:xfrm>
              <a:off x="4724280" y="4876920"/>
              <a:ext cx="25905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olym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test for the presence of protein using the Biuret Test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violet color is a positive reaction for protein in a Biuret Test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biuret"/>
          <p:cNvPicPr/>
          <p:nvPr/>
        </p:nvPicPr>
        <p:blipFill>
          <a:blip r:embed="rId1"/>
          <a:stretch/>
        </p:blipFill>
        <p:spPr>
          <a:xfrm>
            <a:off x="3429000" y="2590920"/>
            <a:ext cx="2089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e are two kinds of nucleic acids – DNA and RN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NA carries genetic information and is responsible for heredit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th are involved in the creation of protei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FG03_25b"/>
          <p:cNvPicPr/>
          <p:nvPr/>
        </p:nvPicPr>
        <p:blipFill>
          <a:blip r:embed="rId1"/>
          <a:srcRect l="4548" t="8716" r="19699" b="35062"/>
          <a:stretch/>
        </p:blipFill>
        <p:spPr>
          <a:xfrm>
            <a:off x="1905120" y="3505320"/>
            <a:ext cx="4876560" cy="293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cleic acids are made of monomers called nucleotid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cleotides have 3 par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g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trogen B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nucleotide"/>
          <p:cNvPicPr/>
          <p:nvPr/>
        </p:nvPicPr>
        <p:blipFill>
          <a:blip r:embed="rId1"/>
          <a:stretch/>
        </p:blipFill>
        <p:spPr>
          <a:xfrm>
            <a:off x="2819520" y="3733920"/>
            <a:ext cx="3657600" cy="2184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omolecules Tab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631800"/>
          <a:ext cx="7772400" cy="58975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bohyd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p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cleic Ac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e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n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What is it used for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ilding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What pieces is 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de of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w do we test for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zym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romolecu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ological macromolecules are defined as large molecules made up of smaller molecu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e are 4 classes of macromolecul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low reactions are essential for an organism to survive but, are not quick enough to sustain life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talys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chemical agents that influence the rate of a reaction without changing or affecting the reaction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biological catalyst that allows reactions to occur at much higher rate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the help of enzymes, those slow reactions can occur quickly enough to sustain life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enzymes work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of energy needed to begin a reaction is known a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ation energ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zymes speed up reactions by lowering this activation energ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llows reactions to proceed much faster than they would have with a higher energy barrier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enzymes work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FG06_08"/>
          <p:cNvPicPr/>
          <p:nvPr/>
        </p:nvPicPr>
        <p:blipFill>
          <a:blip r:embed="rId1"/>
          <a:srcRect l="0" t="0" r="0" b="58731"/>
          <a:stretch/>
        </p:blipFill>
        <p:spPr>
          <a:xfrm>
            <a:off x="685800" y="533520"/>
            <a:ext cx="7410600" cy="30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FG06_08"/>
          <p:cNvPicPr/>
          <p:nvPr/>
        </p:nvPicPr>
        <p:blipFill>
          <a:blip r:embed="rId2"/>
          <a:srcRect l="0" t="53656" r="0" b="6664"/>
          <a:stretch/>
        </p:blipFill>
        <p:spPr>
          <a:xfrm>
            <a:off x="685800" y="3581280"/>
            <a:ext cx="7410600" cy="2930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zym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trate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they are very “picky” and only react with specif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tr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normal enzymatic reaction the enzyme and substrate colli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solution and join at the enzyme’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ive 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ollision works much like a lock and key effec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ive site has a specific shape that only a particular substrate fits into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two are joined they react and the substrate is converted into a produc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the reaction is complete the enzyme and newly formed product separate with the enzyme left unchanged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6" descr="sucroserxn"/>
          <p:cNvPicPr/>
          <p:nvPr/>
        </p:nvPicPr>
        <p:blipFill>
          <a:blip r:embed="rId1"/>
          <a:stretch/>
        </p:blipFill>
        <p:spPr>
          <a:xfrm>
            <a:off x="1523880" y="1600200"/>
            <a:ext cx="5610240" cy="3230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A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zymes can be “turned off” or made inactive by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tempera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p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moval of subst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tion of inhibito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s is called denaturation because it changes the shape of the enzym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5" descr="denaturation"/>
          <p:cNvPicPr/>
          <p:nvPr/>
        </p:nvPicPr>
        <p:blipFill>
          <a:blip r:embed="rId1"/>
          <a:stretch/>
        </p:blipFill>
        <p:spPr>
          <a:xfrm>
            <a:off x="1905120" y="4724280"/>
            <a:ext cx="515304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romolecu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ch macromolecule is made up of smaller organic molecu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se smaller molecules are called monomer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omers that are bonded together are called polymer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5" descr="Fig_9513"/>
          <p:cNvPicPr/>
          <p:nvPr/>
        </p:nvPicPr>
        <p:blipFill>
          <a:blip r:embed="rId1"/>
          <a:stretch/>
        </p:blipFill>
        <p:spPr>
          <a:xfrm>
            <a:off x="1676520" y="3657600"/>
            <a:ext cx="5333760" cy="2855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de of carbon (C), hydrogen (H), and oxygen (O) atoms, always in a ratio of 1:2: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key source of energy used by living thing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bohydrates are sugar molecul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simplest carbohydrate is a monosaccharide (a simple sugar)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 example of a monosaccharide is glucose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8" descr="glucose"/>
          <p:cNvPicPr/>
          <p:nvPr/>
        </p:nvPicPr>
        <p:blipFill>
          <a:blip r:embed="rId1"/>
          <a:stretch/>
        </p:blipFill>
        <p:spPr>
          <a:xfrm>
            <a:off x="4876920" y="1905120"/>
            <a:ext cx="29019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omers of monosaccharides bond together to form more complex sugar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acchari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" descr="250px-Saccharose"/>
          <p:cNvPicPr/>
          <p:nvPr/>
        </p:nvPicPr>
        <p:blipFill>
          <a:blip r:embed="rId1"/>
          <a:stretch/>
        </p:blipFill>
        <p:spPr>
          <a:xfrm>
            <a:off x="4419720" y="838080"/>
            <a:ext cx="3295440" cy="164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verbascose_(unlabelled)"/>
          <p:cNvPicPr/>
          <p:nvPr/>
        </p:nvPicPr>
        <p:blipFill>
          <a:blip r:embed="rId2"/>
          <a:stretch/>
        </p:blipFill>
        <p:spPr>
          <a:xfrm>
            <a:off x="4114800" y="2666880"/>
            <a:ext cx="3743280" cy="395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2892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69343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torage polysaccharide found in plant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 in potatoes, pasta &amp; bread (whea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ellulo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major component of a plant cell wall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 in raw plants/vegetables (it’s what gives the crispness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d to make pap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lycoge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ng term storage of energy for animal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ken into glucose monomers for energy sourc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 Test - Glucos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962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test for the presence of glucose we will use the Benedict’s Tes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positive reaction in a Benedict’s Test is the change of the clear light blue solution to an opaque orange-brown solution in a boiling water bath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color change indicates the presence of Glucose in a given solutio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benedictstest"/>
          <p:cNvPicPr/>
          <p:nvPr/>
        </p:nvPicPr>
        <p:blipFill>
          <a:blip r:embed="rId1"/>
          <a:stretch/>
        </p:blipFill>
        <p:spPr>
          <a:xfrm>
            <a:off x="4876920" y="1676520"/>
            <a:ext cx="323676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 Test - Star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test for the presence of starch, the Lugol’s Iodine Test is used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simple test in which iodine is added to a given solutio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iodine added to a solution turns black-blue then starch is present. If the solution remains the color of iodine, reddish-orange, there is no starch present, a negative tes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7" descr="StarchTest"/>
          <p:cNvPicPr/>
          <p:nvPr/>
        </p:nvPicPr>
        <p:blipFill>
          <a:blip r:embed="rId1"/>
          <a:stretch/>
        </p:blipFill>
        <p:spPr>
          <a:xfrm>
            <a:off x="4495680" y="2209680"/>
            <a:ext cx="3962520" cy="271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9:56:38Z</dcterms:created>
  <dc:creator>Christopher Leas</dc:creator>
  <dc:description/>
  <cp:keywords/>
  <dc:language>en-US</dc:language>
  <cp:lastModifiedBy>wleas</cp:lastModifiedBy>
  <dcterms:modified xsi:type="dcterms:W3CDTF">2010-02-23T20:32:20Z</dcterms:modified>
  <cp:revision>19</cp:revision>
  <dc:subject/>
  <dc:title>Chapter 2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71033</vt:lpwstr>
  </property>
</Properties>
</file>