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01E-49A8-4922-B756-7A520D64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191-80CD-4C73-8C0D-195429C5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5E1-DAAA-4FA6-83CE-C5B426D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FAF-21F6-40E6-925B-97C5C645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0EF0-C82F-4DC8-ACF6-63FD7237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26C7-44F5-46A6-AEA0-BAAD9D58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251D-1AB5-461F-BA79-284F8DE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B2C3-894D-42E7-B364-A7BBE42A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B32-93FB-43FD-82A6-78E20CCF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CD66-14EF-47E4-96B3-DF68EC5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E76-5741-42CE-85C3-F353C10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82C-1E8A-4A3C-ABF5-36ED1E28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CBD2-3F57-4682-BF08-41168E9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772-676F-4CE4-AE30-B3B7817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AEF-9252-4D68-A657-3094C640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2E8-C5D4-45F6-A930-41560D8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7142-66B7-40B8-A981-401E3DE9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D4D-EC36-4171-B74E-1ED399A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BDB-EB6E-41B6-83E3-6298C9F6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EED-DE95-437A-A558-4BD84245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3AF-50B9-4246-90DA-702901FD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27D-4CA4-426A-934D-4684363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115-0271-4EFB-8206-741D9E3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8DD-5B05-4E80-8F75-9FA4482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99F9-8854-455E-8F49-1080EF54CB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EC1C-60A9-43F0-821F-D3737AA621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2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molecu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086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ase elements of these molecules are C, H and O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dy stores lipids as reserve energy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function to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ulate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 us long term energy stor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commonly known as fats, oils and wax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made of one monomer of glycerol and 2 or 3 fatty acid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triglycerides1"/>
          <p:cNvPicPr/>
          <p:nvPr/>
        </p:nvPicPr>
        <p:blipFill>
          <a:blip r:embed="rId1"/>
          <a:stretch/>
        </p:blipFill>
        <p:spPr>
          <a:xfrm>
            <a:off x="838080" y="160020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[Phospholipid Bilayer]"/>
          <p:cNvPicPr/>
          <p:nvPr/>
        </p:nvPicPr>
        <p:blipFill>
          <a:blip r:embed="rId2"/>
          <a:stretch/>
        </p:blipFill>
        <p:spPr>
          <a:xfrm>
            <a:off x="990720" y="4495680"/>
            <a:ext cx="2857320" cy="177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[Cholesterol]"/>
          <p:cNvPicPr/>
          <p:nvPr/>
        </p:nvPicPr>
        <p:blipFill>
          <a:blip r:embed="rId3"/>
          <a:stretch/>
        </p:blipFill>
        <p:spPr>
          <a:xfrm>
            <a:off x="4648320" y="4495680"/>
            <a:ext cx="285732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est way to test for the presence of lipids is the Brown Paper Tes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ubstance is placed on a piece of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ositive test for lipid will leave an “oily” spot on the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paper_test_for_lipids"/>
          <p:cNvPicPr/>
          <p:nvPr/>
        </p:nvPicPr>
        <p:blipFill>
          <a:blip r:embed="rId1"/>
          <a:stretch/>
        </p:blipFill>
        <p:spPr>
          <a:xfrm>
            <a:off x="2209680" y="3890880"/>
            <a:ext cx="3962520" cy="29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are the most complex and functionally diverse molecules of living organism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compose enzymes, blood cells, antibodies and muscle tissue just to name a few and are therefore associated with meat product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base elements of proteins are C, H, O and 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nomers of proteins are 20 different amino acid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ain function of proteins is for growth and repair of tissues in the bod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protein"/>
          <p:cNvPicPr/>
          <p:nvPr/>
        </p:nvPicPr>
        <p:blipFill>
          <a:blip r:embed="rId1"/>
          <a:stretch/>
        </p:blipFill>
        <p:spPr>
          <a:xfrm>
            <a:off x="1066680" y="2057400"/>
            <a:ext cx="3333960" cy="261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676520" y="419112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o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4724280" y="1600200"/>
            <a:ext cx="2647800" cy="3645000"/>
            <a:chOff x="4724280" y="1600200"/>
            <a:chExt cx="2647800" cy="3645000"/>
          </a:xfrm>
        </p:grpSpPr>
        <p:pic>
          <p:nvPicPr>
            <p:cNvPr id="123" name="Picture 10" descr="proteincrystal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26478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1"/>
            <p:cNvSpPr/>
            <p:nvPr/>
          </p:nvSpPr>
          <p:spPr>
            <a:xfrm>
              <a:off x="4724280" y="487692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olym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test for the presence of protein using the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violet color is a positive reaction for protein in a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biuret"/>
          <p:cNvPicPr/>
          <p:nvPr/>
        </p:nvPicPr>
        <p:blipFill>
          <a:blip r:embed="rId1"/>
          <a:stretch/>
        </p:blipFill>
        <p:spPr>
          <a:xfrm>
            <a:off x="3429000" y="2590920"/>
            <a:ext cx="2089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two kinds of nucleic acids – DNA and RN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NA carries genetic information and is responsible for heredit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h are involved in the creation of protei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FG03_25b"/>
          <p:cNvPicPr/>
          <p:nvPr/>
        </p:nvPicPr>
        <p:blipFill>
          <a:blip r:embed="rId1"/>
          <a:srcRect l="4548" t="8716" r="19699" b="35062"/>
          <a:stretch/>
        </p:blipFill>
        <p:spPr>
          <a:xfrm>
            <a:off x="1905120" y="3505320"/>
            <a:ext cx="48765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ic acids are made of monomers called nucleotid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otides have 3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trogen B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nucleotide"/>
          <p:cNvPicPr/>
          <p:nvPr/>
        </p:nvPicPr>
        <p:blipFill>
          <a:blip r:embed="rId1"/>
          <a:stretch/>
        </p:blipFill>
        <p:spPr>
          <a:xfrm>
            <a:off x="2819520" y="3733920"/>
            <a:ext cx="3657600" cy="2184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molecules Tab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631800"/>
          <a:ext cx="7772400" cy="5897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bohyd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p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cleic Ac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e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n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is it used for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ilding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pieces is 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de of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w do we test for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logical macromolecules are defined as large molecules made up of smaller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4 classes of macromolecul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low reactions are essential for an organism to survive but, are not quick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talys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hemical agents that influence the rate of a reaction without changing or affecting the reaction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biological catalyst that allows reactions to occur at much higher ra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the help of enzymes, those slow reactions can occur quickly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of energy needed to begin a reaction is known 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ation energ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zymes speed up reactions by lowering this activation energ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reactions to proceed much faster than they would have with a higher energy barrier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FG06_08"/>
          <p:cNvPicPr/>
          <p:nvPr/>
        </p:nvPicPr>
        <p:blipFill>
          <a:blip r:embed="rId1"/>
          <a:srcRect l="0" t="0" r="0" b="58731"/>
          <a:stretch/>
        </p:blipFill>
        <p:spPr>
          <a:xfrm>
            <a:off x="685800" y="533520"/>
            <a:ext cx="7410600" cy="30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FG06_08"/>
          <p:cNvPicPr/>
          <p:nvPr/>
        </p:nvPicPr>
        <p:blipFill>
          <a:blip r:embed="rId2"/>
          <a:srcRect l="0" t="53656" r="0" b="6664"/>
          <a:stretch/>
        </p:blipFill>
        <p:spPr>
          <a:xfrm>
            <a:off x="685800" y="3581280"/>
            <a:ext cx="7410600" cy="293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zym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they are very “picky” and only react with specif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normal enzymatic reaction the enzyme and substrate colli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solution and join at the enzyme’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ve 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ollision works much like a lock and key effe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e site has a specific shape that only a particular substrate fits int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two are joined they react and the substrate is converted into a produ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reaction is complete the enzyme and newly formed product separate with the enzyme left unchang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sucroserxn"/>
          <p:cNvPicPr/>
          <p:nvPr/>
        </p:nvPicPr>
        <p:blipFill>
          <a:blip r:embed="rId1"/>
          <a:stretch/>
        </p:blipFill>
        <p:spPr>
          <a:xfrm>
            <a:off x="1523880" y="1600200"/>
            <a:ext cx="5610240" cy="3230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A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s can be “turned off” or made inactive by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tempera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p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moval of subst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tion of inhibit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is called denaturation because it changes the shape of the enzy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5" descr="denaturation"/>
          <p:cNvPicPr/>
          <p:nvPr/>
        </p:nvPicPr>
        <p:blipFill>
          <a:blip r:embed="rId1"/>
          <a:stretch/>
        </p:blipFill>
        <p:spPr>
          <a:xfrm>
            <a:off x="1905120" y="4724280"/>
            <a:ext cx="515304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ch macromolecule is made up of smaller organic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se smaller molecules are called mono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omers that are bonded together are called poly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5" descr="Fig_9513"/>
          <p:cNvPicPr/>
          <p:nvPr/>
        </p:nvPicPr>
        <p:blipFill>
          <a:blip r:embed="rId1"/>
          <a:stretch/>
        </p:blipFill>
        <p:spPr>
          <a:xfrm>
            <a:off x="1676520" y="3657600"/>
            <a:ext cx="533376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de of carbon (C), hydrogen (H), and oxygen (O) atoms, always in a ratio of 1:2: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key source of energy used by living thing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 are sugar molecul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simplest carbohydrate is a monosaccharide (a simple sugar)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 example of a monosaccharide is glucos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8" descr="glucose"/>
          <p:cNvPicPr/>
          <p:nvPr/>
        </p:nvPicPr>
        <p:blipFill>
          <a:blip r:embed="rId1"/>
          <a:stretch/>
        </p:blipFill>
        <p:spPr>
          <a:xfrm>
            <a:off x="4876920" y="1905120"/>
            <a:ext cx="29019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omers of monosaccharides bond together to form more complex sugar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" descr="250px-Saccharose"/>
          <p:cNvPicPr/>
          <p:nvPr/>
        </p:nvPicPr>
        <p:blipFill>
          <a:blip r:embed="rId1"/>
          <a:stretch/>
        </p:blipFill>
        <p:spPr>
          <a:xfrm>
            <a:off x="4419720" y="838080"/>
            <a:ext cx="3295440" cy="164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verbascose_(unlabelled)"/>
          <p:cNvPicPr/>
          <p:nvPr/>
        </p:nvPicPr>
        <p:blipFill>
          <a:blip r:embed="rId2"/>
          <a:stretch/>
        </p:blipFill>
        <p:spPr>
          <a:xfrm>
            <a:off x="4114800" y="2666880"/>
            <a:ext cx="374328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2892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6934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torage polysaccharide found in plant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potatoes, pasta &amp; bread (whea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llulo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jor component of a plant cell wall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raw plants/vegetables (it’s what gives the crispness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d to make pap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lycog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 term storage of energy for animal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ken into glucose monomers for energy sour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Gluco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962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glucose we will use the Benedict’s Tes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ositive reaction in a Benedict’s Test is the change of the clear light blue solution to an opaque orange-brown solution in a boiling water bath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lor change indicates the presence of Glucose in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benedictstest"/>
          <p:cNvPicPr/>
          <p:nvPr/>
        </p:nvPicPr>
        <p:blipFill>
          <a:blip r:embed="rId1"/>
          <a:stretch/>
        </p:blipFill>
        <p:spPr>
          <a:xfrm>
            <a:off x="4876920" y="1676520"/>
            <a:ext cx="32367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Star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starch, the Lugol’s Iodine Test is us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simple test in which iodine is added to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iodine added to a solution turns black-blue then starch is present. If the solution remains the color of iodine, reddish-orange, there is no starch present, a negative te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7" descr="StarchTest"/>
          <p:cNvPicPr/>
          <p:nvPr/>
        </p:nvPicPr>
        <p:blipFill>
          <a:blip r:embed="rId1"/>
          <a:stretch/>
        </p:blipFill>
        <p:spPr>
          <a:xfrm>
            <a:off x="4495680" y="2209680"/>
            <a:ext cx="3962520" cy="271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9:56:38Z</dcterms:created>
  <dc:creator>Christopher Leas</dc:creator>
  <dc:description/>
  <cp:keywords/>
  <dc:language>en-US</dc:language>
  <cp:lastModifiedBy>wleas</cp:lastModifiedBy>
  <dcterms:modified xsi:type="dcterms:W3CDTF">2010-02-23T20:32:20Z</dcterms:modified>
  <cp:revision>19</cp:revision>
  <dc:subject/>
  <dc:title>Chapter 2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