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CCD-4ACE-4CB0-9DA8-392E1A2F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E13-9419-4570-B07F-D2BA2ECC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7BB-E3BA-433C-9CF2-C575A62C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B96-3A98-46A8-966A-98A8C21C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23AB-FADA-4FCF-BDE4-996E9CDA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E392-3246-4B37-A308-CF9FD870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EF5E-5112-4746-8CBA-2EAFC1D6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1D44-B7E3-450E-9666-2A1A152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4C75-3528-44B9-98B3-5157DF92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5161-6E00-42BD-A7BC-0E7E51E9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BDF3-A690-49CF-9BB4-FBD0A13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C69-85EA-4982-A46E-F1D2ED55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2449-ED3B-4FA4-949B-BA311199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710-A00F-42B3-899E-3DBA0F9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674-4716-4A67-8B25-4E343ECA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5E5A-1079-4308-8F93-7439A27E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E877-36DE-477A-9C12-5B7C8962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F87-A24A-4C8F-B6D0-53767F18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6E6-6B61-4E6E-8800-836D6707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12E-933E-4282-96A7-890A4A9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37E-F028-49BA-A9A9-121348BD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100-F68E-48F6-AFBA-14D18CE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6D8-029F-4FD6-8C88-7C1679C2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83D-5465-4EF6-AC8F-779CA4D6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7DA1-923F-4D70-94F5-FCF8C01A388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D733-7774-4AF9-BF9B-21AC7C8973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2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molecu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086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ase elements of these molecules are C, H and O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ody stores lipids as reserve energy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function to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ulate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 our bod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 us long term energy stor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commonly known as fats, oils and wax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pids are made of one monomer of glycerol and 2 or 3 fatty acid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triglycerides1"/>
          <p:cNvPicPr/>
          <p:nvPr/>
        </p:nvPicPr>
        <p:blipFill>
          <a:blip r:embed="rId1"/>
          <a:stretch/>
        </p:blipFill>
        <p:spPr>
          <a:xfrm>
            <a:off x="838080" y="1600200"/>
            <a:ext cx="685800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[Phospholipid Bilayer]"/>
          <p:cNvPicPr/>
          <p:nvPr/>
        </p:nvPicPr>
        <p:blipFill>
          <a:blip r:embed="rId2"/>
          <a:stretch/>
        </p:blipFill>
        <p:spPr>
          <a:xfrm>
            <a:off x="990720" y="4495680"/>
            <a:ext cx="2857320" cy="1771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[Cholesterol]"/>
          <p:cNvPicPr/>
          <p:nvPr/>
        </p:nvPicPr>
        <p:blipFill>
          <a:blip r:embed="rId3"/>
          <a:stretch/>
        </p:blipFill>
        <p:spPr>
          <a:xfrm>
            <a:off x="4648320" y="4495680"/>
            <a:ext cx="285732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pid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best way to test for the presence of lipids is the Brown Paper Tes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ubstance is placed on a piece of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positive test for lipid will leave an “oily” spot on the brown pape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paper_test_for_lipids"/>
          <p:cNvPicPr/>
          <p:nvPr/>
        </p:nvPicPr>
        <p:blipFill>
          <a:blip r:embed="rId1"/>
          <a:stretch/>
        </p:blipFill>
        <p:spPr>
          <a:xfrm>
            <a:off x="2209680" y="3890880"/>
            <a:ext cx="3962520" cy="29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are the most complex and functionally diverse molecules of living organism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 compose enzymes, blood cells, antibodies and muscle tissue just to name a few and are therefore associated with meat product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base elements of proteins are C, H, O and 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onomers of proteins are 20 different amino acid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main function of proteins is for growth and repair of tissues in the bod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protein"/>
          <p:cNvPicPr/>
          <p:nvPr/>
        </p:nvPicPr>
        <p:blipFill>
          <a:blip r:embed="rId1"/>
          <a:stretch/>
        </p:blipFill>
        <p:spPr>
          <a:xfrm>
            <a:off x="1066680" y="2057400"/>
            <a:ext cx="3333960" cy="261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676520" y="419112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o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4724280" y="1600200"/>
            <a:ext cx="2647800" cy="3645000"/>
            <a:chOff x="4724280" y="1600200"/>
            <a:chExt cx="2647800" cy="3645000"/>
          </a:xfrm>
        </p:grpSpPr>
        <p:pic>
          <p:nvPicPr>
            <p:cNvPr id="123" name="Picture 10" descr="proteincrystal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26478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1"/>
            <p:cNvSpPr/>
            <p:nvPr/>
          </p:nvSpPr>
          <p:spPr>
            <a:xfrm>
              <a:off x="4724280" y="4876920"/>
              <a:ext cx="259056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olym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tein Te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test for the presence of protein using the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violet color is a positive reaction for protein in a Biuret Test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biuret"/>
          <p:cNvPicPr/>
          <p:nvPr/>
        </p:nvPicPr>
        <p:blipFill>
          <a:blip r:embed="rId1"/>
          <a:stretch/>
        </p:blipFill>
        <p:spPr>
          <a:xfrm>
            <a:off x="3429000" y="2590920"/>
            <a:ext cx="2089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two kinds of nucleic acids – DNA and RN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NA carries genetic information and is responsible for heredit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th are involved in the creation of protei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FG03_25b"/>
          <p:cNvPicPr/>
          <p:nvPr/>
        </p:nvPicPr>
        <p:blipFill>
          <a:blip r:embed="rId1"/>
          <a:srcRect l="4548" t="8716" r="19699" b="35062"/>
          <a:stretch/>
        </p:blipFill>
        <p:spPr>
          <a:xfrm>
            <a:off x="1905120" y="3505320"/>
            <a:ext cx="4876560" cy="293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ic acids are made of monomers called nucleotid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cleotides have 3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g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trogen B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nucleotide"/>
          <p:cNvPicPr/>
          <p:nvPr/>
        </p:nvPicPr>
        <p:blipFill>
          <a:blip r:embed="rId1"/>
          <a:stretch/>
        </p:blipFill>
        <p:spPr>
          <a:xfrm>
            <a:off x="2819520" y="3733920"/>
            <a:ext cx="3657600" cy="2184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iomolecules Tabl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631800"/>
          <a:ext cx="7772400" cy="5897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rbohydr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p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cleic Ac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e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n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is it used for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ilding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What pieces is i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de of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w do we test for i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ological macromolecules are defined as large molecules made up of smaller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re are 4 classes of macromolecul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p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i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cleic aci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slow reactions are essential for an organism to survive but, are not quick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talys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hemical agents that influence the rate of a reaction without changing or affecting the reaction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biological catalyst that allows reactions to occur at much higher ra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the help of enzymes, those slow reactions can occur quickly enough to sustain life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of energy needed to begin a reaction is known as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ation energ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zymes speed up reactions by lowering this activation energy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llows reactions to proceed much faster than they would have with a higher energy barrier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enzymes work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FG06_08"/>
          <p:cNvPicPr/>
          <p:nvPr/>
        </p:nvPicPr>
        <p:blipFill>
          <a:blip r:embed="rId1"/>
          <a:srcRect l="0" t="0" r="0" b="58731"/>
          <a:stretch/>
        </p:blipFill>
        <p:spPr>
          <a:xfrm>
            <a:off x="685800" y="533520"/>
            <a:ext cx="7410600" cy="30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FG06_08"/>
          <p:cNvPicPr/>
          <p:nvPr/>
        </p:nvPicPr>
        <p:blipFill>
          <a:blip r:embed="rId2"/>
          <a:srcRect l="0" t="53656" r="0" b="6664"/>
          <a:stretch/>
        </p:blipFill>
        <p:spPr>
          <a:xfrm>
            <a:off x="685800" y="3581280"/>
            <a:ext cx="7410600" cy="2930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zymes 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-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they are very “picky” and only react with specif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str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normal enzymatic reaction the enzyme and substrate collid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solution and join at the enzyme’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ive s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ollision works much like a lock and key effe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e site has a specific shape that only a particular substrate fits into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two are joined they react and the substrate is converted into a produc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reaction is complete the enzyme and newly formed product separate with the enzyme left unchang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sucroserxn"/>
          <p:cNvPicPr/>
          <p:nvPr/>
        </p:nvPicPr>
        <p:blipFill>
          <a:blip r:embed="rId1"/>
          <a:stretch/>
        </p:blipFill>
        <p:spPr>
          <a:xfrm>
            <a:off x="1523880" y="1600200"/>
            <a:ext cx="5610240" cy="3230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zyme Ac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zymes can be “turned off” or made inactive by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tempera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in p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moval of subst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tion of inhibit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is called denaturation because it changes the shape of the enzym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5" descr="denaturation"/>
          <p:cNvPicPr/>
          <p:nvPr/>
        </p:nvPicPr>
        <p:blipFill>
          <a:blip r:embed="rId1"/>
          <a:stretch/>
        </p:blipFill>
        <p:spPr>
          <a:xfrm>
            <a:off x="1905120" y="4724280"/>
            <a:ext cx="515304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cromolecu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ach macromolecule is made up of smaller organic molecul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se smaller molecules are called mono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omers that are bonded together are called polymer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5" descr="Fig_9513"/>
          <p:cNvPicPr/>
          <p:nvPr/>
        </p:nvPicPr>
        <p:blipFill>
          <a:blip r:embed="rId1"/>
          <a:stretch/>
        </p:blipFill>
        <p:spPr>
          <a:xfrm>
            <a:off x="1676520" y="3657600"/>
            <a:ext cx="533376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de of carbon (C), hydrogen (H), and oxygen (O) atoms, always in a ratio of 1:2: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key source of energy used by living thing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bohydrates are sugar molecul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simplest carbohydrate is a monosaccharide (a simple sugar)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 example of a monosaccharide is glucose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8" descr="glucose"/>
          <p:cNvPicPr/>
          <p:nvPr/>
        </p:nvPicPr>
        <p:blipFill>
          <a:blip r:embed="rId1"/>
          <a:stretch/>
        </p:blipFill>
        <p:spPr>
          <a:xfrm>
            <a:off x="4876920" y="1905120"/>
            <a:ext cx="29019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nomers of monosaccharides bond together to form more complex sugar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" descr="250px-Saccharose"/>
          <p:cNvPicPr/>
          <p:nvPr/>
        </p:nvPicPr>
        <p:blipFill>
          <a:blip r:embed="rId1"/>
          <a:stretch/>
        </p:blipFill>
        <p:spPr>
          <a:xfrm>
            <a:off x="4419720" y="838080"/>
            <a:ext cx="3295440" cy="164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verbascose_(unlabelled)"/>
          <p:cNvPicPr/>
          <p:nvPr/>
        </p:nvPicPr>
        <p:blipFill>
          <a:blip r:embed="rId2"/>
          <a:stretch/>
        </p:blipFill>
        <p:spPr>
          <a:xfrm>
            <a:off x="4114800" y="2666880"/>
            <a:ext cx="374328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2892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69343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storage polysaccharide found in plant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potatoes, pasta &amp; bread (whea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ellulo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jor component of a plant cell wall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 in raw plants/vegetables (it’s what gives the crispness)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d to make pap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lycoge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 term storage of energy for animal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ken into glucose monomers for energy sourc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Glucos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962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glucose we will use the Benedict’s Test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ositive reaction in a Benedict’s Test is the change of the clear light blue solution to an opaque orange-brown solution in a boiling water bath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color change indicates the presence of Glucose in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6" descr="benedictstest"/>
          <p:cNvPicPr/>
          <p:nvPr/>
        </p:nvPicPr>
        <p:blipFill>
          <a:blip r:embed="rId1"/>
          <a:stretch/>
        </p:blipFill>
        <p:spPr>
          <a:xfrm>
            <a:off x="4876920" y="1676520"/>
            <a:ext cx="3236760" cy="3867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bohydrate Test - Star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 test for the presence of starch, the Lugol’s Iodine Test is used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is a simple test in which iodine is added to a given solution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iodine added to a solution turns black-blue then starch is present. If the solution remains the color of iodine, reddish-orange, there is no starch present, a negative tes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7" descr="StarchTest"/>
          <p:cNvPicPr/>
          <p:nvPr/>
        </p:nvPicPr>
        <p:blipFill>
          <a:blip r:embed="rId1"/>
          <a:stretch/>
        </p:blipFill>
        <p:spPr>
          <a:xfrm>
            <a:off x="4495680" y="2209680"/>
            <a:ext cx="3962520" cy="271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9:56:38Z</dcterms:created>
  <dc:creator>Christopher Leas</dc:creator>
  <dc:description/>
  <cp:keywords/>
  <dc:language>en-US</dc:language>
  <cp:lastModifiedBy>wleas</cp:lastModifiedBy>
  <dcterms:modified xsi:type="dcterms:W3CDTF">2010-02-23T20:32:20Z</dcterms:modified>
  <cp:revision>19</cp:revision>
  <dc:subject/>
  <dc:title>Chapter 2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