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90FB-3F4F-4367-AE1E-64509A13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3506-CE0E-4130-A37B-DF501315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6D282-3A61-47D3-83ED-EDAA1604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AE180-A21C-4FAA-895B-7D6BEEAC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6C06E-FED2-49CD-91D0-A14725CD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C32E4-442C-40B5-97C1-034EF743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0392B-E34A-4F90-A927-BD59747C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67607-9CB7-4464-AB2B-DF57EA47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FD22C-68F8-4D21-BAA5-2C89245B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C1F05-BB34-4283-99C5-173AF3A1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CA608-9BE5-4B6B-AE41-7BA75ECE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E2CD-8F4C-4464-A27D-06E97046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E916-14B0-4AD4-ACF4-1DB0D6C5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5B3E-36F1-4BDA-AA1F-B4BD9D91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B063-CF3E-4EBD-91BB-7EF488A1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6E4E-2775-41D1-82E5-BC610990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8C21-7FA8-4276-92EE-F174CBA3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9A6F-49DF-4BA2-ABF7-87D5B156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0F2B-F660-47B9-A613-967B192C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FC59-9D4C-4F5B-B843-BF3857CB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B3F3-2557-41C8-B150-953F0345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1BCF-9C5F-48FC-8CB6-0EDE5B4A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042D-BDE9-4193-95F7-55BA418B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9515-6438-4A15-B6B3-9C48F27C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B7E2-D6E9-4D96-A1C1-4032DB41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4E98-9955-47C4-BBA8-6A9455C7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9D369-ADEA-4237-AFF9-D851A182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959ED-E88A-4618-A620-E0C0886D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9F7EB-ADF9-4284-A09B-FA71696D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944A6-EACE-4D1C-A39C-609994FD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47CBE-EF85-445E-9B14-3E001CEB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D13F-BF93-4059-8753-D312715C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4ACEA-0C14-49E6-8784-1B476365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DCE45-D538-40B2-8989-2CBD5012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EEA59-DD44-41B6-B597-4BD525AF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D7CFC-95CE-472C-9BEC-4AAABB6A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629C2-DC88-4D5E-96B4-8B9C19BA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E0467-0499-4A30-9ABC-19CAD24C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6EED9-3E40-46F0-B8C5-35E7AF9D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DDEA2-E96D-4C03-887C-E1C2A37A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625FA-9C58-491D-8413-F8FA8ACC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A478B-517C-4BCD-80D4-C90838E6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E12-08B9-4CF1-BA7A-44102712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FBF9D-C747-4436-9A17-21621ED5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10DDF-A8B8-4B56-B970-6AFE7A53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3C3CF-2775-449F-AFE2-09664077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A9495-B39A-49FE-9307-041CAE12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EBB72-9A9C-49A5-961E-4902762D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F37C2-65B9-4CAF-A798-EE037068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F4EDC-6CAE-49B5-BE5A-FFA628C7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0CC64-A676-4E04-9433-49DB718D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99EC3-4F7C-4EB1-909C-01DF0FBB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25D2F-9D4A-4F65-A59B-CA0F1793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D5D-D5B7-482D-BB35-34991E8F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29300-3DA6-4355-A14D-249FFB9A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94CB3-8550-4946-AF73-646C0D71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D4498-482F-4388-987B-38958F98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F3ACD-0362-4171-983C-8D01DC25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7B3EE-D249-47AB-8312-CFBA4BD6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47D9C-41D0-4AF8-9419-DF3A265B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8754B-EF9A-4AFC-8B3E-DAECC026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37D94-B241-49C5-83EE-CFC13F02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1F033-74F9-4F5C-9017-8ABE9BAB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714DC-86EF-4803-915F-456ED8D7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73E0-4D25-44BB-B28D-FF4A9165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0B7A2-3D5C-4EC3-A166-4F9DAC50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09D61-BBB1-4E14-8879-A42756AD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0121A-ABD9-4A7A-8869-8D06DC85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2EB87-1D23-45AA-8FBF-6E84B1B3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2500A-BADC-42AE-880F-E5DF580C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940D2-8A82-4B38-9372-D652EB5E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7780C-E7DF-4393-AD23-A49C7C44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6C885-0D76-447E-A15D-D9049439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23A13-9DC2-46A4-BEC1-D59F1ABE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63C94-3EA5-4FFC-A8AA-21AB670B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5E5F-A3F4-44A3-8729-F68F3007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21B3F-5C5E-4977-A948-838E6EF8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E94FD-82D5-4F2C-9E0B-F01F6BC1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8F1E6-1644-4375-8F34-1ED23112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48FDE-605C-4F32-9E56-F45D8EC5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B2DEC-894F-41DC-81BD-9989CF1C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21FD3-8CA0-495D-8859-D69F62A9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1356D-F022-4B8C-A381-EED6D1EA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F7B43-3773-45FF-BDBA-22C30A63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05C75-1660-42B2-ABDD-7FD4844E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5605F-902F-4EEB-AFCF-1EDADF75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A465-07D2-41EB-B22D-678D8AFC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4F078-DC47-409F-93EC-38BFC6FA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0CC60-642E-441B-A2D1-6F4F0B66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333DB-EB8D-4559-A683-F87D29A3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E55D4-EE1F-41A3-AED3-BB61CB54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BFF2D-3749-4009-BD5C-EB7C470C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B954A-8365-4E1B-9686-EDDF307E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A7338-C62B-43FB-98D4-19D25692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D4F1A-2E8C-4626-B592-92F1E9CF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D72DE-3177-4A21-9BAB-52DE4825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BD82C-69CD-41E8-957D-6DB854A4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CE69-D86A-4690-9097-3938E425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F4158-9E24-4000-96C2-40E979B7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3E019-B4DE-40C2-8AFB-2C8A927B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07058-0284-4F0E-B8E2-A70A3B95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BFAFC-92EF-4BEB-B194-004E0AED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B0375-6A5C-4942-BCF4-87BD8B09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AA3CC-2391-455A-AEDC-A86EC649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6C0DA-AACA-4002-BD74-FDB06170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9C3A6-7B68-4E0C-89F3-BBA3CD22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BE88E-A716-4F1F-A9AA-409DFD60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7A3CE-2315-4F21-81D1-CD176E8B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9B71-F105-4ACD-8DD6-AF9263E7746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6CE6-E622-4FD6-8CD8-3CEE96915AA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2928-A175-4578-A9F7-856F9077E91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59D7-CD14-4BCE-9A92-EF7FAE259A9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E331-784B-4C88-AF2F-B9364137023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802C-4F6C-4605-8252-0088D9E25E2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A904-64D6-4BB2-85B5-681ABECD75A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8875-2FB7-43A4-9D46-9CB399B6F92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8FAD-788D-4198-B3FD-617D79B55BB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022640" y="1146240"/>
            <a:ext cx="4518000" cy="3438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019560" y="5486400"/>
            <a:ext cx="2819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Westbroo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115920" y="133200"/>
            <a:ext cx="3797280" cy="665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Caus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vent + 3 Cause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. Introdu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Hoo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Bridg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. Thesis Statemen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. Cause 1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I. Cause 2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V. Cause 3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. Conclus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New Perspectiv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Relevanc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0492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Effec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vent + 3 Effect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. Introdu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Hoo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Bridg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. Thesis Statemen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. Effect 1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I. Effect 2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V. Effect 3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. Conclus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New Perspectiv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Relevanc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-128520" y="-115920"/>
            <a:ext cx="9126360" cy="20779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Grading rubric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labor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uppor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corporating quot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9" name="Content Placeholder 3" descr=""/>
          <p:cNvPicPr/>
          <p:nvPr/>
        </p:nvPicPr>
        <p:blipFill>
          <a:blip r:embed="rId2"/>
          <a:stretch/>
        </p:blipFill>
        <p:spPr>
          <a:xfrm>
            <a:off x="285840" y="1352520"/>
            <a:ext cx="4279680" cy="49690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4937040" y="1352520"/>
            <a:ext cx="3915000" cy="39146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"/>
          <p:cNvPicPr/>
          <p:nvPr/>
        </p:nvPicPr>
        <p:blipFill>
          <a:blip r:embed="rId4"/>
          <a:stretch/>
        </p:blipFill>
        <p:spPr>
          <a:xfrm>
            <a:off x="4932360" y="5010120"/>
            <a:ext cx="3919680" cy="162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3" name="Content Placeholder 3" descr=""/>
          <p:cNvPicPr/>
          <p:nvPr/>
        </p:nvPicPr>
        <p:blipFill>
          <a:blip r:embed="rId2"/>
          <a:stretch/>
        </p:blipFill>
        <p:spPr>
          <a:xfrm>
            <a:off x="1731960" y="1884240"/>
            <a:ext cx="5595840" cy="338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andwiching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ne sentence introduces, i.e. makes reference to some idea from the quo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Quo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ne sentence concludes, i.e. explains what the quote means in relation to your poin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-128520" y="-115920"/>
            <a:ext cx="9126360" cy="20779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vising for convent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cor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mplete sentenc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gree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en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a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apitaliz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unctu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pell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2"/>
          <a:stretch/>
        </p:blipFill>
        <p:spPr>
          <a:xfrm>
            <a:off x="4552920" y="285840"/>
            <a:ext cx="4146480" cy="605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-128520" y="-115920"/>
            <a:ext cx="9126360" cy="20779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Understanding prompt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Recognizing context/occas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Recognizing audienc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Recognizing purpos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Recognizing subject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Brainstorming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Organizing thought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Thesis format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Outlining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208080" y="133200"/>
            <a:ext cx="4724280" cy="66582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5029200" y="1315800"/>
            <a:ext cx="41148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Rhetorical Triangl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Purpose and Context/Occas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Audienc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Subjec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72200" y="1599840"/>
            <a:ext cx="2819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Rhetorical Triangl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Purpose and Context/Oc-cas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Audi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Subjec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5981760" cy="665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Defini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447920" y="2209680"/>
          <a:ext cx="6095880" cy="32353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uman righ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uarant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Ju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ticl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orally r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ticl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e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ticl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nalien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la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ommon s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hu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Cau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Diagram 6" descr=""/>
          <p:cNvPicPr/>
          <p:nvPr/>
        </p:nvPicPr>
        <p:blipFill>
          <a:blip r:embed="rId1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Effect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Diagram 3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DEFINIT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important to least/most importa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obvious to least/most obviou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CAUS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important to least/most importa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obvious to least/most obvious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nowball”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EFFECT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/least important to least/most importa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ost /least obvious to least/most obvious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ipple”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efinition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erm + Class + 3 Characteristic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. Introdu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Hoo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Bridg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. Thesis Statemen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. Characteristic 1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I. Characteristic 2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V. Characteristic 3 Topic Sente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. Conclus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. New Perspectiv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. Relevanc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3:58:10Z</dcterms:created>
  <dc:creator>swestbrook</dc:creator>
  <dc:description/>
  <dc:language>en-US</dc:language>
  <cp:lastModifiedBy>Westbrook, Susan</cp:lastModifiedBy>
  <dcterms:modified xsi:type="dcterms:W3CDTF">2010-02-24T18:23:25Z</dcterms:modified>
  <cp:revision>24</cp:revision>
  <dc:subject/>
  <dc:title>English II state Writing  assessment review workshop  </dc:title>
</cp:coreProperties>
</file>