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C6A2-B18E-48F2-9FB7-646F2F12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81B4-552E-4214-9C9F-24223841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6E8BC-3651-4878-9318-AB5EB1F6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7690E-BF0D-4EF3-9301-EEE0502D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EB2D5-095E-462E-A906-38661839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57D03-5748-461E-8369-4CFEBA56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FC579-911E-412C-A150-F400B1EA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C27C1-DF59-4244-94B2-5605FE84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C07D0-975C-443B-A629-987D250F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D8E18-5FEB-4BB5-82B9-B6CF15ED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8178A-8804-472B-8210-F8C851A4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FA3B-E2E1-4B00-9392-382CEE1D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3F30-2CEE-4842-B942-203177B7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2EEB-AB9B-4219-9F61-CBE3AB7C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35F4-79F0-453C-B49F-124239DB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B210-B33F-4AC6-B078-948C9100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2237-0A23-4B5E-9B31-ABDFFA37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BF84-6125-431D-B83C-45898ED3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C0DE-69BC-40A8-8FB4-72D070B1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3B22-67FD-4DFD-B07D-44E92715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723E-9D16-4F3D-A9E0-C4D303EF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0D7E-04A8-4D2A-BCCE-E19997C8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FAB1-8456-4EC6-8B23-5EAADF06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DD6F-D818-426B-A1C2-5060F74F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A1E6-8B4B-4FFB-9936-76118493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17BF-6617-45C4-9265-7BD72AAF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12D3E-F906-404F-B938-7DC780B6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497AA-9631-4F85-A333-A5B1B456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6CCA3-5C1F-4472-BEF8-20489303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065B2-6E73-4818-8D52-BA800C1A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22A84-72AB-4577-85BD-50F62951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6AC-A805-4022-A5ED-A1A82618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6F8D6-F23E-41BF-9DCB-006DA1D8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AB78A-0DBD-4A29-9F77-B21C8CD3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EC9F2-108A-48F4-A7F3-AF212567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05176-B590-48A4-92E0-5E3E624A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49225-A3EA-4B75-BAD9-BB8CFEFC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53CAE-2B27-4A31-9058-A94BF850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510DD-7FA2-488B-8C20-388FAC6C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DBB31-A869-4A3F-8568-6D192012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2C694-EF50-4752-8DF8-2EA06FCF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7C168-97C1-4D96-B5E3-C1673E3F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AD2B-96EB-455E-93C4-6DDAAE05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A832F-62CC-42A5-824C-065CD79B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66F59-179B-48D0-8077-8F280C55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49C7E-D1A5-412E-9231-EF3B4F8E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EF5B0-5E0B-4AD6-8E2E-3484FB07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6110C-4E17-4128-8D45-742A6ED0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35A90-D3DA-487A-A1E7-26AFFDE6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62882-3DAB-4893-A59D-95DFF970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585F9-ED44-45D5-B444-2067E054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A389D-CD57-4F79-9829-0AB626EE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8A418-DC6C-477E-BB95-061D0CE8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53BD-856C-4A75-A72F-0231EFFE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9D6D5-FA76-4604-8C2F-70E3A1C4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D6A0D-17A7-4597-9F78-11A14B6E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11CC3-E0F6-4864-AEF7-D9078A42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27BDD-AE2B-4506-9DD8-64BEF23E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1F45C-6BA5-4B67-9DFA-47378DCE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4D825-5CBC-40E0-9A5F-C18C8655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90E54-4A43-497D-B7BD-8DA262E7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F172A-A247-4CE2-AE83-4C78046F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96D99-D821-401F-852F-E0B2E17F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11A41-06C8-43A1-A8FF-447099A3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8CBB-5171-437E-858D-82C02D6F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886CA-8603-4FF7-96FA-70F59546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E1BEC-FD99-4BEE-8293-212CE97F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47A52-F978-433C-A2F5-10E9B3A0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25DB6-9E03-4D9D-AD4B-7D876696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253E1-D37B-458B-ADBF-C35E51DC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ACC52-5FA9-4A51-9F85-C321E34D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BA5BF-6267-43BE-8590-B09BC860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D89AA-DD5E-4416-8BF9-D97A3042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8D50F-881C-41DD-BD7F-A1D4D698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98859-0ADC-4608-81F4-87E846B1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A5B3-2D6B-4E57-99F2-1E774C48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943C9-6284-439B-BF3A-EDB2BE30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A3125-FCFA-4086-A7CA-49BF9BEF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1EA81-1D96-4692-99EB-5D6C37A7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7A181-77FC-4F47-B4AD-7C5CAACB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D6407-3543-4AE3-A45F-6BE168F9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3B597-BE8C-46DE-A9BF-944FC259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9E572-6E0C-4F84-A24D-E6A8E99B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C6E99-93EB-478A-8EDE-810D084A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A85FC-1060-46F1-ABDC-1F8FE701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EB528-189A-4DBE-BBA7-7E75C07F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403-87F0-4185-A35D-948DD7A6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31858-01C7-46F1-AE7D-0002A6FA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8D259-EA51-48FD-B02E-AC152DC5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3622E-9E70-4AC9-8535-D2D47335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90CFA-1557-4341-B5D5-7A183625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A0FFA-CAE9-41D9-8160-3C6D7B82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C22C4-D0AA-4AAD-9863-75860226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E74E4-7986-44AD-8DD8-1ED08CD9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00927-2EC1-4B72-BF5A-CCC10AD2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C8E42-73D3-4E52-895E-392D8AC5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98B3D-9EF2-4B8A-95FC-19E74E42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166-D723-4335-98A9-FB02E37D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D1E1E-0A6C-441F-B946-458F90BF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63BB2-C678-4515-AE2C-532F865E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C495E-8D0E-4147-B10B-D4ABEB3A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EC4FC-3E7D-483B-9E60-4216FBB8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66FFF-4ED9-4D01-B167-D4DAFE11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48125-58B0-4B9C-9FC8-A9B71D14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78281-56F1-467C-A167-FEEC91B4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2DABA-7425-4CFC-BAC7-B6C7BC82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F7642-E3D2-408C-9CC4-4BDFE6EF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8ED9C-79DE-46D5-815B-B74B4634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7043-F76A-42CE-899F-8E75B40FC11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C041-03B1-46AA-9E58-63374D8062F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6480-816B-41C1-881E-7D0E5E42FC8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12E8-2EDD-4A4D-B09A-80752E5DFEF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1B37-DAD2-403D-99AA-E0D9A459199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7A53-8824-440D-9245-FDD25A70639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033F-0B07-4394-9CFE-E4ACF011B20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D160-1A52-426A-A9C8-4B67112FD98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5BA8-BF73-4CCC-85BC-A081FC3F823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022640" y="1146240"/>
            <a:ext cx="4518000" cy="3438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019560" y="5486400"/>
            <a:ext cx="2819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Westbroo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115920" y="133200"/>
            <a:ext cx="3797280" cy="665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Caus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vent + 3 Cause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. Introdu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Hoo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Bridg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. Thesis Statemen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. Cause 1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I. Cause 2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V. Cause 3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. Conclus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New Perspectiv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Relevanc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0492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Effec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vent + 3 Effect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. Introdu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Hoo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Bridg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. Thesis Statemen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. Effect 1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I. Effect 2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V. Effect 3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. Conclus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New Perspectiv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Relevanc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-128520" y="-115920"/>
            <a:ext cx="9126360" cy="20779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Grading rubric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labor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uppor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corporating quot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9" name="Content Placeholder 3" descr=""/>
          <p:cNvPicPr/>
          <p:nvPr/>
        </p:nvPicPr>
        <p:blipFill>
          <a:blip r:embed="rId2"/>
          <a:stretch/>
        </p:blipFill>
        <p:spPr>
          <a:xfrm>
            <a:off x="285840" y="1352520"/>
            <a:ext cx="4279680" cy="49690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4937040" y="1352520"/>
            <a:ext cx="3915000" cy="39146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"/>
          <p:cNvPicPr/>
          <p:nvPr/>
        </p:nvPicPr>
        <p:blipFill>
          <a:blip r:embed="rId4"/>
          <a:stretch/>
        </p:blipFill>
        <p:spPr>
          <a:xfrm>
            <a:off x="4932360" y="5010120"/>
            <a:ext cx="3919680" cy="162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3" name="Content Placeholder 3" descr=""/>
          <p:cNvPicPr/>
          <p:nvPr/>
        </p:nvPicPr>
        <p:blipFill>
          <a:blip r:embed="rId2"/>
          <a:stretch/>
        </p:blipFill>
        <p:spPr>
          <a:xfrm>
            <a:off x="1731960" y="1884240"/>
            <a:ext cx="5595840" cy="338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andwiching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ne sentence introduces, i.e. makes reference to some idea from the quo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Quo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ne sentence concludes, i.e. explains what the quote means in relation to your poin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-128520" y="-115920"/>
            <a:ext cx="9126360" cy="20779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vising for convent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cor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mplete sentenc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gree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en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a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apitaliz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unctu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pell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2"/>
          <a:stretch/>
        </p:blipFill>
        <p:spPr>
          <a:xfrm>
            <a:off x="4552920" y="285840"/>
            <a:ext cx="4146480" cy="605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-128520" y="-115920"/>
            <a:ext cx="9126360" cy="20779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Understanding prompt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Recognizing context/occas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Recognizing audienc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Recognizing purpos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Recognizing subject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Brainstorming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Organizing thought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Thesis format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Outlining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208080" y="133200"/>
            <a:ext cx="4724280" cy="66582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5029200" y="1315800"/>
            <a:ext cx="41148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Rhetorical Triangl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Purpose and Context/Occas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Audienc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Subjec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72200" y="1599840"/>
            <a:ext cx="2819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Rhetorical Triangl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Purpose and Context/Oc-cas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Audi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Subjec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5981760" cy="665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Defini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447920" y="2209680"/>
          <a:ext cx="6095880" cy="32353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uman righ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uarant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Ju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ticl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rally r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ticl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e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ticl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nalien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la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ommon s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hu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Cau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Diagram 6" descr=""/>
          <p:cNvPicPr/>
          <p:nvPr/>
        </p:nvPicPr>
        <p:blipFill>
          <a:blip r:embed="rId1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Effect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Diagram 3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DEFINIT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important to least/most importa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obvious to least/most obviou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CAUS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important to least/most importa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obvious to least/most obvious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nowball”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EFFECT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important to least/most importa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 /least obvious to least/most obvious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ipple”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efinition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erm + Class + 3 Characteristic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. Introdu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Hoo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Bridg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. Thesis Statemen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. Characteristic 1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I. Characteristic 2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V. Characteristic 3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. Conclus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New Perspectiv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Relevanc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3:58:10Z</dcterms:created>
  <dc:creator>swestbrook</dc:creator>
  <dc:description/>
  <dc:language>en-US</dc:language>
  <cp:lastModifiedBy>Westbrook, Susan</cp:lastModifiedBy>
  <dcterms:modified xsi:type="dcterms:W3CDTF">2010-02-24T18:23:25Z</dcterms:modified>
  <cp:revision>24</cp:revision>
  <dc:subject/>
  <dc:title>English II state Writing  assessment review workshop  </dc:title>
</cp:coreProperties>
</file>