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1CCD-15C7-43F4-A47B-57CDC998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EB7A-0103-4698-B338-47979618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F01DEE-09B5-47C4-A6BC-7477DC8A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65307-AD8E-473B-97F9-326CE4E6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B585E-F304-438C-B40C-FEA6C4DB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F9AC6-9173-4D46-A8CD-0576D98F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B3E6C-CFAD-4C90-B45A-2322086A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B62C0-09D6-402C-978A-80FC1537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A39B5C-7A56-466A-9CE4-7B58CBFF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9F6FDF-FF17-4291-8656-57768A87E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05ADD-E2DC-4C63-BB47-8D3A40B1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9D93-F0A0-4031-BE0A-DA38A6412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C1A7-5BB5-450F-A7C1-E64D56D2D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5DAF-1B23-412B-9BDB-9921719ED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F2D1-96A5-4A5D-9029-F75A607B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D783-46D7-4B2F-9B8C-F304FAF9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C79D-ED81-4D43-BD7D-EEA83900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2AC2-3357-4DEB-B777-0332F80A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9598-50AC-40F2-96EA-8B54F34B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6218-C2B7-4B66-9AB8-850716ED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F3E5-B0DF-480B-BDE4-AC531E9E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AB7B-7EBE-4CA7-9B99-C7443A04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8B55-D984-4A67-970A-9FC34328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D4B3-3D51-42DE-A203-C8E9D68F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2D1A-91A5-4B8B-974F-3B8975BB0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61DB-0879-4C53-AA44-ABF9B55D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BE616-5AE0-4DFB-A066-2B54E705D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1F701-038A-481B-B657-52CE2B26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90229-8E26-4DFD-82A3-BB476BFE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85979-4E29-49F0-9B4F-3E765E2A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6127A-F6C8-48F8-8786-49C9556A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FA86-D03C-447A-A3A6-5AB13F3C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E96FC-5B5A-47FD-AD59-60D93825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994D7-9F56-4747-B99A-FAC12936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A1340-8B7F-4256-BAAA-7156D322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B0DD5-4D4F-4272-9F69-4553C090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F152C-1BA9-40B8-AA2D-E16FE569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D4569-01B5-463F-9203-424DECB9D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20AC8-D7A8-4D3C-927E-D87CD9608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EF23F-40EE-4092-B33F-80FFCC7E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B240D-0397-457F-8EE2-B230CF12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545B0-1F3B-41C3-BED4-61B34FED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782B-1B19-442B-8A6D-0D6C8436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F400E-2850-4D1F-93FF-06E27284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26FF4-C5F5-437B-93D7-5FBB7ECF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7F7BC-236B-417C-9339-761ACE6D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43D4E-E8B2-4F31-97D0-88DBDFAE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47699-2F42-41BE-891C-A2A866BE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EFE83-4C9C-4D2D-9498-BB90E2A2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D118D-7EDB-48A0-A7DD-5DB90203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01CE7-8BAC-47FE-BA4F-AF057B7C5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64E58-D5DB-4380-B77C-56E32F489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CF3A2-A21A-4354-BC92-EDBD8683C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F426-E741-4B29-8970-D8D9859C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2D0E3-F67F-45EA-A5B9-305C5DCF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9D024-7584-4FC1-8225-4AEA2829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9440E-9767-4039-95A7-99B70EAA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9399E-501F-4377-BBF2-5D7E1110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21441-B590-4FEF-96EE-63D6CC86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43F79-9A20-44AD-98EB-0369E235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E0787-5ED1-411B-B762-9961D4E3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E3F41-BE14-437B-BB15-37989A94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3D4B8-65CB-45A4-8681-7FD51028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2F40C-4C06-4BD5-9627-387E6F40C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1F08-3700-489C-92C9-178F0811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C9927-1F9F-4876-8699-5BB571B08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AF612-CA17-4EBD-ACD5-31AD9DE7A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D17A0-B05B-4B3A-B337-A55579E4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C13EE-4DA9-4F42-8B0D-4043DFDE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DF5C2-3232-4400-80DB-EE7C56C8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C52E3-31AA-4D27-8DD7-989C4F59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AEDAD-3608-4F6B-83DD-D06FA696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86FEB-F3F5-43A9-8187-337586A3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E6581-3006-46DE-95C9-F68734EA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1FF24-3CF2-468B-B9BA-4ECA197B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1260-6C3F-4B47-9906-33573EE6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C4B3E-16EC-489F-B2FA-11E5FF46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0F2D7-B557-4AE4-B504-C460D8299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79FC5-35D6-4256-9150-551B7C830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09714-19AE-4095-9131-DF1929305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DFC1E-1329-4077-A4EE-5345E5EA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21BF3-3109-46BC-9EF2-A87CD033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0DDE1-95ED-4436-A3EE-663EE57C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86F0C-7DC6-4B05-BE9E-DAD7DBA2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703AA-E3E7-4357-B69D-4EDF342A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B1F3C-A785-41C5-9F0D-7E38C25C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3E79-84FB-4374-9864-66809A4F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5AFAD-A499-40CC-A05B-ECECA7DB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383FD-0D39-4EFF-99F2-B5158288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ABFEA-3BC6-4566-9B91-485CCEC4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16524-785F-4A5F-B8AA-E29562F03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4FD28-C210-4140-8B96-22FC440A4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9DA6C-DA1F-46E5-AEE1-13C538967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2E5D8-A67B-42FF-9467-71C90688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082B8-06DE-455D-A530-E2ADB4D5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26DD6-63CD-4FF9-B5B2-624BFC24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669B1-E583-4F2E-8049-A3F4FB4F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3B4E-5891-4202-A771-4E1ABD80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6E52A-0EE4-4014-AB5A-944297F6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6AB2D-354B-41ED-9785-FC6A7E0D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72BC8-B461-4FFB-97F2-014DCDBE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014D3-EB63-46B4-ADE6-B71783D6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0AACA-7ACC-4412-9FE7-00B3DD7D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A94D4-52C6-4A6C-93A4-FBA5C1753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43E06-9EE7-4564-8934-8C0A85A73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513014-D404-43FF-8A0E-686B0F7EE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6AECA-C11C-4C3B-A21C-45F33702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59667-B2E8-48FE-A302-78DDD450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42EE-D0FD-47F0-BB27-1F45ED9218A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9039-2960-438C-ACDA-519EE9AFEEA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51D5-8847-4BB1-8FA2-5492279F066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1ED3-9B80-4A80-9A24-0E58F20C38B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8F07-46F1-4A25-A9EF-B4055CDBBB8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DE1D-04EF-44A1-86DD-9CD639E4B8D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370B-ECD3-4592-913A-7B23CCB0B8F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B134-01E3-49FF-A5B9-9F0AEF0FDD7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0A7D-82B1-4D67-80BA-D04C1CF1756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4022640" y="1146240"/>
            <a:ext cx="4518000" cy="3438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019560" y="5486400"/>
            <a:ext cx="2819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Westbrook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Picture 3" descr=""/>
          <p:cNvPicPr/>
          <p:nvPr/>
        </p:nvPicPr>
        <p:blipFill>
          <a:blip r:embed="rId2"/>
          <a:stretch/>
        </p:blipFill>
        <p:spPr>
          <a:xfrm>
            <a:off x="115920" y="133200"/>
            <a:ext cx="3797280" cy="665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0492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Cause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vent + 3 Causes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. Introduc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. Hook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B. Bridg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. Thesis Statement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I. Cause 1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II. Cause 2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V. Cause 3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V. Conclus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. New Perspectiv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B. Relevanc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0492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Effect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vent + 3 Effects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. Introduc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. Hook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B. Bridg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. Thesis Statement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I. Effect 1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II. Effect 2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V. Effect 3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V. Conclus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. New Perspectiv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B. Relevanc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tle 1" descr=""/>
          <p:cNvPicPr/>
          <p:nvPr/>
        </p:nvPicPr>
        <p:blipFill>
          <a:blip r:embed="rId1"/>
          <a:stretch/>
        </p:blipFill>
        <p:spPr>
          <a:xfrm>
            <a:off x="-128520" y="-115920"/>
            <a:ext cx="9126360" cy="20779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Grading rubric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labora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uppor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corporating quot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9" name="Content Placeholder 3" descr=""/>
          <p:cNvPicPr/>
          <p:nvPr/>
        </p:nvPicPr>
        <p:blipFill>
          <a:blip r:embed="rId2"/>
          <a:stretch/>
        </p:blipFill>
        <p:spPr>
          <a:xfrm>
            <a:off x="285840" y="1352520"/>
            <a:ext cx="4279680" cy="49690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4937040" y="1352520"/>
            <a:ext cx="3915000" cy="39146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5" descr=""/>
          <p:cNvPicPr/>
          <p:nvPr/>
        </p:nvPicPr>
        <p:blipFill>
          <a:blip r:embed="rId4"/>
          <a:stretch/>
        </p:blipFill>
        <p:spPr>
          <a:xfrm>
            <a:off x="4932360" y="5010120"/>
            <a:ext cx="3919680" cy="1628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33" name="Content Placeholder 3" descr=""/>
          <p:cNvPicPr/>
          <p:nvPr/>
        </p:nvPicPr>
        <p:blipFill>
          <a:blip r:embed="rId2"/>
          <a:stretch/>
        </p:blipFill>
        <p:spPr>
          <a:xfrm>
            <a:off x="1731960" y="1884240"/>
            <a:ext cx="5595840" cy="3382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andwiching”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One sentence introduces, i.e. makes reference to some idea from the quot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Quot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One sentence concludes, i.e. explains what the quote means in relation to your point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Title 1" descr=""/>
          <p:cNvPicPr/>
          <p:nvPr/>
        </p:nvPicPr>
        <p:blipFill>
          <a:blip r:embed="rId1"/>
          <a:stretch/>
        </p:blipFill>
        <p:spPr>
          <a:xfrm>
            <a:off x="-128520" y="-115920"/>
            <a:ext cx="9126360" cy="20779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evising for conventio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coring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mplete sentenc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greemen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ens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as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apitaliza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unctua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pelling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0" name="Picture 3" descr=""/>
          <p:cNvPicPr/>
          <p:nvPr/>
        </p:nvPicPr>
        <p:blipFill>
          <a:blip r:embed="rId2"/>
          <a:stretch/>
        </p:blipFill>
        <p:spPr>
          <a:xfrm>
            <a:off x="4552920" y="285840"/>
            <a:ext cx="4146480" cy="605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-128520" y="-115920"/>
            <a:ext cx="9126360" cy="20779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Understanding prompt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Recognizing context/occasion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Recognizing audience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Recognizing purpose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Recognizing subject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Brainstorming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Organizing thought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Thesis formation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Outlining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208080" y="133200"/>
            <a:ext cx="4724280" cy="66582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5029200" y="1315800"/>
            <a:ext cx="411480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Rhetorical Triangl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Purpose and Context/Occasio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Audienc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Subject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72200" y="1599840"/>
            <a:ext cx="2819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Rhetorical Triangl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Purpose and Context/Oc-cas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Audi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Subject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133200" y="133200"/>
            <a:ext cx="5981760" cy="6658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Defini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1447920" y="2209680"/>
          <a:ext cx="6095880" cy="323532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Te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Characteri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uman righ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uarante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Ju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rticl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Morally r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rticl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Leg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rticl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nalien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lav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ommon s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hu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Caus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4" name="Diagram 6" descr=""/>
          <p:cNvPicPr/>
          <p:nvPr/>
        </p:nvPicPr>
        <p:blipFill>
          <a:blip r:embed="rId1"/>
          <a:stretch/>
        </p:blipFill>
        <p:spPr>
          <a:xfrm>
            <a:off x="1517760" y="1390680"/>
            <a:ext cx="6108480" cy="407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Effect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Diagram 3" descr=""/>
          <p:cNvPicPr/>
          <p:nvPr/>
        </p:nvPicPr>
        <p:blipFill>
          <a:blip r:embed="rId1"/>
          <a:stretch/>
        </p:blipFill>
        <p:spPr>
          <a:xfrm>
            <a:off x="1517760" y="1378080"/>
            <a:ext cx="6108480" cy="4101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DEFINITION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ost/least important to least/most important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ost/least obvious to least/most obvious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CAUSE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ost/least important to least/most important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ost/least obvious to least/most obvious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nowball”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EFFECT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ost/least important to least/most important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ost /least obvious to least/most obvious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ipple”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Definition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erm + Class + 3 Characteristic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. Introduc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. Hook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B. Bridg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. Thesis Statement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I. Characteristic 1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II. Characteristic 2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V. Characteristic 3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V. Conclus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. New Perspectiv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B. Relevanc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3:58:10Z</dcterms:created>
  <dc:creator>swestbrook</dc:creator>
  <dc:description/>
  <dc:language>en-US</dc:language>
  <cp:lastModifiedBy>Westbrook, Susan</cp:lastModifiedBy>
  <dcterms:modified xsi:type="dcterms:W3CDTF">2010-02-24T18:23:25Z</dcterms:modified>
  <cp:revision>24</cp:revision>
  <dc:subject/>
  <dc:title>English II state Writing  assessment review workshop  </dc:title>
</cp:coreProperties>
</file>