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4662-0077-4E94-9FCF-74701C23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7913-9990-46D5-B1E7-C69DF2EE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1DA42C-E338-4DAB-92DE-6C01AD89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230BA-DE33-40F0-96A7-D5E3F4CD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7EB214-61A2-49C2-BF86-0CC4D895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FEA1E-36CE-46AA-B76A-8DCC1D48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E8221-4F0F-4487-9F38-298FCBE0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7BD0B-3E7D-477F-9ED5-19D4C36F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B580E-3D1C-4C5C-935D-66C1B6B0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C0AF56-D293-4ABF-A533-C2F402D30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79456-A1C5-4A07-8B08-83BF867F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2150-78F7-4E30-BAB9-DA7D1028F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09C9-80A8-40FB-816B-7304F74EC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6811-9C40-4B69-B832-4F9A8232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A618-676F-4F35-A89E-99B03CB7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2138-4B2D-451C-A416-D65BF65F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ACCF-555E-4A02-B6A1-9EFA8CBB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35E6-CE32-4FD9-BE0A-425DF07E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AE4F-4658-4AA1-BF89-EF4A3B07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9B7B-C1EC-4027-928F-2F2225DF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0BD4-F887-44D0-9748-ABC2190F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A463-EA59-4081-B928-99ED5160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E996-6138-422A-8203-30F10268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1A2F-7D82-423E-93FB-66BC95C9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3583-AC19-4ABF-AF8C-6C7B3855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92A0-76F7-4165-863A-A4DC8DDA3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92923-DFE4-45D9-9B1D-78338BBFA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BB1FF-743E-4D73-9B65-6FD32365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6213D-86A5-4254-B64F-FD4F7925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6BF8D-F7CD-4111-8FF5-91856313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EDD01-FB5C-46A4-8B00-CC157949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DAAD-DD7D-4BC2-AC52-72E3F7AE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19EAA-8DA9-465E-8A08-349CEE45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18E71-FC33-499C-A3F2-DC7E40C7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7EB68-7451-4441-B259-16920864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C5749-EAF9-4D0A-AFF1-D833BAAF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37159-EBD6-4B7E-A456-20B213B3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EF434-DD37-45EB-AE81-90717A4E0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B5F51-AD93-4CA5-83E5-8D0A8CF86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A2EDE-E6F0-4325-B823-9C6F13DEC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6C4ED-9615-4568-AA50-ED790740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4C5F4-0236-4482-9186-3FBC49D3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7D20-21FC-40E3-AE76-86BFBA35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E525F-E724-4B04-B27D-D00F0712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22D1F-108C-470B-BE8B-3C072206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ECB2C-0BF2-437B-9E96-D4E386F3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848E1-D6DD-4F60-AA15-AD0CCE23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AA19A-5158-4883-A43B-61A6DAD4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5C451-6A84-40F1-B088-101454DD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47527-5C0E-4EEC-A6F8-AC8EDAF8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31518-DFE5-4A70-932E-682F06F3D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35E7E-1C64-435C-89B8-355896518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F4A17-CCBD-4884-BA05-015BA86B7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702F-D495-43B5-89AB-65733D9E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F5863-BA9A-4FCF-ADF9-7C8F25FB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71DB9-3610-4BD2-BFAB-8F7206C5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BDA1D-EE8F-48A6-AC58-D6E9C510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368DC-8AC8-4803-9BD5-182E85A3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26B77-5B48-4472-97E4-91491955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C4875-C0F7-4F0F-8EAA-4BA53A6E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9BDF3-245D-458C-9144-DC2A51C1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27219-DAB4-4B2D-AD45-9D4B4387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18976-90E3-4A36-B538-170CFC2D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15E4C-97D6-4A7E-9832-26538BF92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9950-C830-42F1-B759-28454FAB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3DAE9-F16C-4AD2-901F-88E401C7D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0D9A5-5B48-45C3-9290-083A2FC6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77978-1BC8-4985-975A-932C58C5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20F75-7FFE-4CFB-9439-7E3990F6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550DC-4E8A-464C-82E9-4A25D6A5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4D544-64E2-46F9-8147-C0A27E36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FBAB8-4014-4ACD-94E8-923166B6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673A6-7900-4308-B97D-63718844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A7C39-A965-411E-83AB-D8956DE8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8354B-B9C4-452A-8C80-58A40456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30A0-ED67-488C-A2EE-C4D681C5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2B9A1-14DF-47E7-AA5A-CD598265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2477D-F21A-45EE-B27F-884FD82A4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D000A-A34D-4520-9896-08BA8723B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8C067-6B31-4088-8588-09672A945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B8185-1923-4A4B-B99C-FCFC3AFD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74BE5-39B2-47F3-8BEF-3D1B668E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DD21E-D616-40DB-8D21-32F6DE34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DF4B2-2BF1-47BD-806E-EE592E32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C9E8C-CC3C-4EB8-B1D3-2E85729C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1766E-C119-47B3-850A-E5F4635A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484A-4283-411B-9B5F-BCDA57C0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0022B-31C4-4295-8C30-07676289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16F75-F5E9-4E3C-A9F2-7C4B82AC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AF126-EDC4-4930-B1B6-35D6CFAB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C5946-BECD-4FF0-89B1-8D07C8AF3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49B51-E1E2-49F4-A7E1-5CA085E40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30CE8-E9A4-4C52-BEFD-0C424F70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61437-4A79-4CE6-BB15-0550F996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23CE0-2587-4F32-AEB8-485C1AF8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5D913-7283-4C14-BC03-2EC72CF1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BACD7-B01F-4AF1-A1A8-62305B95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4A7D-86B9-4E27-845E-119DAF1C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BC43D-B697-409C-9370-5910E566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618DC-8009-4FCC-A33A-8BE5BCFE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D6863-A091-466D-9B20-AFB46644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03BB3-6593-4845-B610-C9A8E87D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1016C-C1B8-47C2-8A66-0BB23483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CD02D-FF79-4C20-AF5F-4DA8D143A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615AB-A6A9-443A-8297-AACAA1DC5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484AB-ED16-4618-9DA6-467229D4E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0517EE-AF28-44FF-BF50-F674E125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C7991-2E30-4827-ACC2-8FF03F3A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5CF5-D559-4EA7-94C7-F90FD7AB7E5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3B3C-0D57-4428-AABB-398EDD1896E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FC5F-A689-46C3-BD94-90A50B5FCA1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4E54-EF88-44E7-A532-5ABE8C21421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BA3C-8B9D-480E-8ED4-6F7FB2328C0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963C-8A94-454C-8C0B-9256DD49405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13F8-1416-4CA8-A2B4-B1850361546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D397-5579-45DF-BD71-D2AE650CDF4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36B4-621F-45D9-BA2C-2B6D9DDAA8B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4022640" y="1146240"/>
            <a:ext cx="4518000" cy="3438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019560" y="5486400"/>
            <a:ext cx="2819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Westbrook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Picture 3" descr=""/>
          <p:cNvPicPr/>
          <p:nvPr/>
        </p:nvPicPr>
        <p:blipFill>
          <a:blip r:embed="rId2"/>
          <a:stretch/>
        </p:blipFill>
        <p:spPr>
          <a:xfrm>
            <a:off x="115920" y="133200"/>
            <a:ext cx="3797280" cy="665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0492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Cause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vent + 3 Causes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. Introduc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. Hook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B. Bridg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. Thesis Statement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I. Cause 1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II. Cause 2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V. Cause 3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V. Conclus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. New Perspectiv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B. Relevanc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0492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Effect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vent + 3 Effects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. Introduc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. Hook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B. Bridg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. Thesis Statement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I. Effect 1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II. Effect 2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V. Effect 3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V. Conclus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. New Perspectiv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B. Relevanc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tle 1" descr=""/>
          <p:cNvPicPr/>
          <p:nvPr/>
        </p:nvPicPr>
        <p:blipFill>
          <a:blip r:embed="rId1"/>
          <a:stretch/>
        </p:blipFill>
        <p:spPr>
          <a:xfrm>
            <a:off x="-128520" y="-115920"/>
            <a:ext cx="9126360" cy="20779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Grading rubric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labora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uppor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corporating quot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9" name="Content Placeholder 3" descr=""/>
          <p:cNvPicPr/>
          <p:nvPr/>
        </p:nvPicPr>
        <p:blipFill>
          <a:blip r:embed="rId2"/>
          <a:stretch/>
        </p:blipFill>
        <p:spPr>
          <a:xfrm>
            <a:off x="285840" y="1352520"/>
            <a:ext cx="4279680" cy="49690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4937040" y="1352520"/>
            <a:ext cx="3915000" cy="39146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5" descr=""/>
          <p:cNvPicPr/>
          <p:nvPr/>
        </p:nvPicPr>
        <p:blipFill>
          <a:blip r:embed="rId4"/>
          <a:stretch/>
        </p:blipFill>
        <p:spPr>
          <a:xfrm>
            <a:off x="4932360" y="5010120"/>
            <a:ext cx="3919680" cy="1628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33" name="Content Placeholder 3" descr=""/>
          <p:cNvPicPr/>
          <p:nvPr/>
        </p:nvPicPr>
        <p:blipFill>
          <a:blip r:embed="rId2"/>
          <a:stretch/>
        </p:blipFill>
        <p:spPr>
          <a:xfrm>
            <a:off x="1731960" y="1884240"/>
            <a:ext cx="5595840" cy="3382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andwiching”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One sentence introduces, i.e. makes reference to some idea from the quot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Quot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One sentence concludes, i.e. explains what the quote means in relation to your point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Title 1" descr=""/>
          <p:cNvPicPr/>
          <p:nvPr/>
        </p:nvPicPr>
        <p:blipFill>
          <a:blip r:embed="rId1"/>
          <a:stretch/>
        </p:blipFill>
        <p:spPr>
          <a:xfrm>
            <a:off x="-128520" y="-115920"/>
            <a:ext cx="9126360" cy="20779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evising for conventio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coring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mplete sentenc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greemen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ens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as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apitaliza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unctua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pelling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0" name="Picture 3" descr=""/>
          <p:cNvPicPr/>
          <p:nvPr/>
        </p:nvPicPr>
        <p:blipFill>
          <a:blip r:embed="rId2"/>
          <a:stretch/>
        </p:blipFill>
        <p:spPr>
          <a:xfrm>
            <a:off x="4552920" y="285840"/>
            <a:ext cx="4146480" cy="605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-128520" y="-115920"/>
            <a:ext cx="9126360" cy="20779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Understanding prompt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Recognizing context/occasion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Recognizing audience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Recognizing purpose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Recognizing subject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Brainstorming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Organizing thought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Thesis formation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Outlining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208080" y="133200"/>
            <a:ext cx="4724280" cy="66582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5029200" y="1315800"/>
            <a:ext cx="411480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Rhetorical Triangl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Purpose and Context/Occasio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Audienc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Subject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72200" y="1599840"/>
            <a:ext cx="2819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Rhetorical Triangl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Purpose and Context/Oc-cas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Audi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Subject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133200" y="133200"/>
            <a:ext cx="5981760" cy="6658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Defini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1447920" y="2209680"/>
          <a:ext cx="6095880" cy="323532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Te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Characteri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uman righ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uarante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Ju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rticl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Morally r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rticl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Leg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rticl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nalien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lav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ommon s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hu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Caus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4" name="Diagram 6" descr=""/>
          <p:cNvPicPr/>
          <p:nvPr/>
        </p:nvPicPr>
        <p:blipFill>
          <a:blip r:embed="rId1"/>
          <a:stretch/>
        </p:blipFill>
        <p:spPr>
          <a:xfrm>
            <a:off x="1517760" y="1390680"/>
            <a:ext cx="6108480" cy="407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Effect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Diagram 3" descr=""/>
          <p:cNvPicPr/>
          <p:nvPr/>
        </p:nvPicPr>
        <p:blipFill>
          <a:blip r:embed="rId1"/>
          <a:stretch/>
        </p:blipFill>
        <p:spPr>
          <a:xfrm>
            <a:off x="1517760" y="1378080"/>
            <a:ext cx="6108480" cy="4101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DEFINITION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ost/least important to least/most important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ost/least obvious to least/most obvious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CAUSE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ost/least important to least/most important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ost/least obvious to least/most obvious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nowball”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EFFECT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ost/least important to least/most important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ost /least obvious to least/most obvious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ipple”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Definition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erm + Class + 3 Characteristic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. Introduc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. Hook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B. Bridg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. Thesis Statement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I. Characteristic 1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II. Characteristic 2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V. Characteristic 3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V. Conclus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. New Perspectiv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B. Relevanc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3:58:10Z</dcterms:created>
  <dc:creator>swestbrook</dc:creator>
  <dc:description/>
  <dc:language>en-US</dc:language>
  <cp:lastModifiedBy>Westbrook, Susan</cp:lastModifiedBy>
  <dcterms:modified xsi:type="dcterms:W3CDTF">2010-02-24T18:23:25Z</dcterms:modified>
  <cp:revision>24</cp:revision>
  <dc:subject/>
  <dc:title>English II state Writing  assessment review workshop  </dc:title>
</cp:coreProperties>
</file>