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E42-50E8-4D37-8030-C1E063AD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3E6-60B5-4932-AE2C-B30B3B45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6F70B-3D6D-4B99-AF43-B6848C5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FED18-2730-478C-9B66-03E6CF0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666FA-46B2-467A-8A1B-F1153208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E5BD4-94B9-4766-99EB-C878546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47EE5-0B49-490F-BDF6-A6A3E27C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B1C5-85F4-4C5F-AFB4-0559006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513F1-C376-47A8-ADD4-EF5AEA5B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05389-A53A-4BB4-8C5A-F9E0A23C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B2D13-8FAE-4805-B3E6-807F7725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E38-77F8-4C2B-9256-7947E2DF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5F0-9BCF-48E9-B846-4BFDB912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FD1C-74BA-4C15-A447-CDFA87FD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FFFA-7FBB-4877-A09D-5328842B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E6AD-375A-4010-8C5B-7D2EC91E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EA2B-E073-4CCB-9F47-77EFEC4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CA77-14F4-4209-8F5E-9C2D8AA9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3F4-7902-4FA7-9C38-F22367F3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EF87-1352-4948-8801-CBB6BB4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9CF-7B78-40FF-AD53-EF8C5FCB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BA2-7B4F-488E-8191-31C42FC8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5BF7-30A2-45BF-9CB7-F9125D61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009A-6DB6-472F-AB81-692DCBF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CB8D-CFF5-42FF-AC96-4DE99673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142A-34B1-4F04-865D-413C8D7B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3CD4-010B-4280-AFD7-811A5A2A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93B46-1FF5-4E86-B1DC-A7A31DF1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0D0F-AB2D-4852-9557-F71011EA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01AF-B8A3-40B2-AB8C-F4F1175B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D0C1-CD22-4D4F-BA66-E999A26C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FA9-C05D-4C73-AD6F-CFEA02D3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3332-055F-4D6A-A836-CEA5D331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286D-3A3B-417C-9DA3-42AEEDE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2657-0CF1-4651-A77B-780915A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0B208-5914-4290-A4D6-B05FC1F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54BE-DA1C-43E4-96E0-754F417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300E-F737-4A9F-9398-43D16B97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5EFE-A261-402C-BEC9-B0CBA803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A4CFC-4C6F-445B-AC04-16826220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0B74-002B-4268-95D3-A001D33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84E4-7992-44CB-ACD4-54B28114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B51-8CC3-4526-8E1C-0A7810D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4BD6-9E82-4ACC-A95A-4C8D7B35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C4A5-FDC7-476C-9623-5034EF2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9F10-2F22-40C6-950E-4BD31347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D978-DF08-49A8-AE22-0179DB34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715A-30C6-4A0C-9109-6231AB02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DAE8-5D4D-431C-9C94-276F576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DE87-6F27-4E36-8A6D-245B8AAE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531E-21AD-4751-B88A-34132C69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232F-5E40-4F96-94DC-7D6E95EE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A50AA-F72C-4AFD-82C1-8B950A39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791-17EF-448B-B56B-E48B726D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80772-7FD2-4C1E-85D0-700B8823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70C4-BAC7-4B32-8836-CFE99861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352E-8750-4DE3-94D4-676A479E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1E3A-3B31-4D2F-9165-71052FBD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8C58F-632A-475F-A1F6-174BB93B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9C16-EAF4-45E2-AE04-9DFD927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441E1-FCFC-4840-8693-774A9BB1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0D124-3900-41E7-B2A5-62E11F2F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D6AC-4856-4E84-8092-714D99D9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5B0D-0136-4E17-AA58-A2A87248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FC5-E723-43D2-9F6A-CCA48A6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7D1C8-E807-4B64-9D5D-E060E7A9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0E163-6FC2-4C87-9A37-4C768C87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739DA-CB27-4F07-A583-BD9D499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737AA-6516-433D-B8C2-EF7BA3FC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044E-6682-44A4-A2AD-D17635E5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A1DB-C7E1-4D72-8232-EBE51BF4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F79B-4501-46F4-91D1-58FBD5DB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F26C7-3563-4C8B-87AA-6D51297D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C35F-A3C8-42F1-9B3A-DA624F1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F151-FBE1-4939-A481-F4D698B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446-257C-43A1-88A5-30E48A0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EFD4-0BFA-48FA-B0BC-DC5C2375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04B9C-8CE4-4A4A-82BB-39D29E52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5B8AC-E005-4727-833B-232E3451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97C8D-5340-4492-8044-C97F1A7E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901D1-3265-4C6B-8C55-EF2D180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C3B50-431F-40BF-89DF-95FE3EDB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07624-BD92-4BBD-A0C3-1B614C4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7AAE-7C81-4080-9D6D-15A2D28B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1AC1E-412A-45A0-A7ED-FA666F7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9A899-B49F-4DA6-A3A8-4857F63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F12-EDF2-424D-AC96-772B18B1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E3734-681A-48EF-9067-4D02288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293F-B85C-4A69-92AC-FEA4A01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7BC2-FBBF-41E9-BD67-D63DA843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38A64-2687-45F4-8791-82257E9C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32E1C-D553-4EB0-A534-BB130A27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87F79-CE92-49A6-98D6-A36A2642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ED56B-0EEA-4D47-B450-C7C89F29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60664-B6F3-4353-8381-6E80333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88D83-E63C-4F79-8154-7EB4B43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CADA-7856-42E7-AF10-BB0C9A69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468-557E-4F33-89FE-62C062D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728A0-8B13-4071-BEBE-9398FDB3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F8D78-68A8-4227-BC2B-BACD8C2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6A75-45CF-4EB5-99BF-38C7FBE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42CBF-3C50-4FD6-90BB-CB9053E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E6E5C-2FA1-45E1-8ED8-AF4DBDAA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2D73A-79C1-4C85-9EB1-5A082B9D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AEBAA-8530-4780-9A6F-402D3760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DDC64-366B-4A7A-B478-5A2C59FC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2F55F-ACAF-41A2-8EF7-E5012111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92988-F364-4808-9988-A7C4C9B9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A38E-6952-4425-A3F3-BE8A2DF2DB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FD90-0FD5-49D1-AD45-2C3715929E4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1F75-1FC1-4CCC-B095-E4B471BD48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76F4-DB44-4F8F-9B7C-F6AD6641FF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73E-8430-4CED-9838-4FC73ABEF4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993C-2A84-4F8A-B30D-4769322C07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0AB5-6BE5-41B8-9D6B-968069BCBEB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E59-6D69-4141-937B-3BE00D31C2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61E-A86F-4E84-89F1-0A3E66C564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022640" y="1146240"/>
            <a:ext cx="4518000" cy="3438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Westbr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15920" y="133200"/>
            <a:ext cx="3797280" cy="665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Cau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ause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ause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ause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Effec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Effect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Effect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Effect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rading rubr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abo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orporating quo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Content Placeholder 3" descr=""/>
          <p:cNvPicPr/>
          <p:nvPr/>
        </p:nvPicPr>
        <p:blipFill>
          <a:blip r:embed="rId2"/>
          <a:stretch/>
        </p:blipFill>
        <p:spPr>
          <a:xfrm>
            <a:off x="285840" y="1352520"/>
            <a:ext cx="4279680" cy="4969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37040" y="1352520"/>
            <a:ext cx="3915000" cy="3914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4932360" y="5010120"/>
            <a:ext cx="391968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3" descr=""/>
          <p:cNvPicPr/>
          <p:nvPr/>
        </p:nvPicPr>
        <p:blipFill>
          <a:blip r:embed="rId2"/>
          <a:stretch/>
        </p:blipFill>
        <p:spPr>
          <a:xfrm>
            <a:off x="1731960" y="1884240"/>
            <a:ext cx="55958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ndwiching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introduces, i.e. makes reference to some idea from the 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concludes, i.e. explains what the quote means in relation to your poi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vising for conven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co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lete senten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gre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pital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nctu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l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52920" y="285840"/>
            <a:ext cx="4146480" cy="60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Understanding promp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context/occa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audie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purpo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subj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Brainstorm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rganizing thou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Thesis form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utlin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4724280" cy="6658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0" y="1315800"/>
            <a:ext cx="41148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Purpose and Context/Occa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72200" y="15998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urpose and Context/Oc-ca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981760" cy="665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47920" y="2209680"/>
          <a:ext cx="6095880" cy="32353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an 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uarant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rally 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alien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a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mmon s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Diagram 6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Effec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Diagram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nowball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 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ipple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+ Class + 3 Characteristic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haracteristic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haracteristic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haracteristic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8:10Z</dcterms:created>
  <dc:creator>swestbrook</dc:creator>
  <dc:description/>
  <dc:language>en-US</dc:language>
  <cp:lastModifiedBy>Westbrook, Susan</cp:lastModifiedBy>
  <dcterms:modified xsi:type="dcterms:W3CDTF">2010-02-24T18:23:25Z</dcterms:modified>
  <cp:revision>24</cp:revision>
  <dc:subject/>
  <dc:title>English II state Writing  assessment review workshop  </dc:title>
</cp:coreProperties>
</file>