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CD1-F850-4D92-97AB-C1E88FE9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DE8-1B34-4B90-80EF-04739679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E1825-9F51-4554-B4E4-D18D6BC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AF27C-19FA-45AD-8271-C3209413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26FCA-40C3-4262-A6D0-10ED4A7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F36C7-87B2-43C7-BB81-7CE8934A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5B37B-7604-4DCB-983C-EF639B6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E92D4-D881-4839-810D-FAF556D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0E363-205F-4CDD-BA42-3C60065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B06F6-82FC-4AFD-9C24-D5AB1FB3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E5364-CC40-4808-9A5D-6FF5FD79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B0B-0581-45FD-A3F0-CE5F839C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193-5816-49B4-ADCE-01593D00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107D-675D-4D24-8920-23883BFF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FDB0-AE55-47BF-87CA-0FAA698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387-2F39-489F-B531-1A57EE3E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F3D2-B805-4AC3-931C-23C9968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DA39-D12F-4E67-9BF5-CB91052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0DE2-C9CD-43E7-B7CC-851E0E9F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D71-BEEE-497C-A3D6-89E15E2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E99-B1D1-494B-A28F-5E1A1826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D1E5-FD8B-444A-A13F-9DFCDF56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9B8C-605C-47DD-9C4F-7C7738DE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BC1-312E-42A3-9ED0-8803B32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8640-CEB1-4F4C-B021-5EE1E9B1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BA66-7C68-44DE-B16E-5F3EF3D5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2F46-0300-4616-B7C1-3CDC9CF3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DCAD-746F-465D-9886-958CF562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8289-37C6-4B19-BF2B-F081AEF5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A00E-DE19-4E25-BE9A-A2E4A6E9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62A0-912B-4D44-B269-3B4D0084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0F9-8F5E-4F3B-9E83-C8F1F889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6473-3284-4CD4-A5C3-5809F567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063D-E8A4-4E59-AEF0-656E21D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CF63-BA3A-4F74-8C9B-8418F5DD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F134-1932-4E6B-B9C6-5E4C941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7C7F-8A2C-4EDF-9B7C-AECB1CC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CA36-F6F8-4792-94F2-E7026214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FCCD-E9D0-4511-AFF2-DFBC82BC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6BA0-519B-46A2-94CA-0D3744C8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4662-E6AB-46B8-A3DA-498C573C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2E3D-3E66-4BA4-8B1D-D5FD17B1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EE7-574D-4453-8D3A-BD1C9A1F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F364-4351-411D-8E70-139A7DE3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F2AA-4365-4367-A6D1-E3D3FCA2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84E1-A71B-44AC-B26F-0466605C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0780-9098-4808-A65B-AC12ED6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E0D08-D6FA-42C9-85F2-DEFB939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ED4B-D87D-483A-8F72-315ADBC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E8E2-84B2-4814-A483-5F092F3C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636C-3569-4385-BB41-2ADF82CE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DBAA-2E4F-4DC5-8E26-482120FE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78B4-8203-4335-9167-FF6F9F77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3A7-135F-492C-9E6B-902CEE31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22CC-A417-43B5-B171-255069B5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1E54-48A8-4F0E-9F90-4265B10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9EDA-DF61-460E-AB41-7BC5A1E3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1A72-165D-41B0-8F72-742ADCC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1BAA-27A6-4BCC-B97B-7C80632B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79DDF-5956-4C7C-8381-00C7BB2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7AB50-2D3C-4EA5-9890-8F24F9A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1D13-BB6B-41D4-BF48-C9ACB7E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1D15-1836-4846-94EE-7158DC2D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5C0D-D8BB-41CE-8620-1042E98C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253-C56A-4588-A5C9-77D8CBA8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15EE-6206-42EA-9F5F-102AA5C2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8392-77CB-4A0B-9D68-3C9B8726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0460-5BBC-4FAA-84C0-25A155AB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CEED-828F-4EEC-ADBB-0E78EECF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492E-6450-4749-BD47-54D81315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B6894-6CF4-4C62-BAD5-1EA14395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A8D5-BC5B-4464-AE68-D5219EEE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9B38-CA19-4E89-88DD-EF826C7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719AA-C71C-4057-B33E-E480453E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C4E3F-1C5F-4FA4-BB2B-0DDC338E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5BD-3C26-41AD-910E-668ACE7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0CF19-1A9F-4E39-9236-8AED216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0F9C-6BD1-4939-A88E-996D279D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D31D3-387D-47B0-8B71-600227A5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7D1A1-EEC3-4937-9A12-14C49B99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0500-4883-43DF-8D84-F65A6F0B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7797-8F00-4E0B-BA1C-EE911E38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354C8-A67F-4FBD-ADC4-AD116599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69043-5812-4277-A800-B90771A0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22204-9D66-4E13-B52A-1DF3140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5F773-395B-430F-9510-B151B073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6D3-71F9-4AEF-9472-50F97D7B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3BCBF-54AC-443C-9AF4-C5895AF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5766-0374-48D3-9F43-A1E13683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12543-1B75-4380-8C90-E91C001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68927-CD21-4ACC-BE79-6715EB38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99A3-DF1B-443C-9DD2-5979F3CF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7AF17-4E2F-4825-8136-AF740F96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9CB6-ECAD-4FD8-B96A-DFF527E2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A450B-F163-4CD2-B946-F59E94F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EFDA6-CBCC-42A5-BFE5-8DC44FCE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7902D-F29E-41A0-BFEA-2F941D28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ACA-47FA-4F40-B003-7D206B8C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E3D72-151F-4EC6-8111-4C445554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61AE9-38B0-4951-9F0D-5880B743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91DB4-53C7-4A83-A44F-AA44B484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06837-C468-4186-98CE-9D5CC7B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0D36-A8AF-4321-8359-4063E34B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1F810-308C-46CD-8323-0964B28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E9D0A-97FB-4678-AA49-B8849727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9D55-77B0-49BB-9998-4E7BE141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89AA2-AD74-49D1-876E-1F28F4CA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4997F-D0EB-4831-B246-E3C35EF0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41ED-3796-4FC7-B06D-CC37FCB2F6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B68F-71A2-496A-A577-F6E4010632A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8A3D-616B-43C0-BE5A-84370AF359D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3D2-8FED-4E07-BA00-9098B7A646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844-87E4-450E-858C-0FB2BB3DC1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7B2-D4D2-4DC2-A6AA-42F4218FA5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823-E1F2-4848-953C-F137F8333D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18C7-07D2-43C9-9CBF-E17AF0376F4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F04-10CF-4BC4-AE65-CB5886382D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022640" y="1146240"/>
            <a:ext cx="4518000" cy="3438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Westbr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15920" y="133200"/>
            <a:ext cx="3797280" cy="665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Cau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ause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ause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ause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Effec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Effect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Effect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Effect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rading rubr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abo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orporating quo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Content Placeholder 3" descr=""/>
          <p:cNvPicPr/>
          <p:nvPr/>
        </p:nvPicPr>
        <p:blipFill>
          <a:blip r:embed="rId2"/>
          <a:stretch/>
        </p:blipFill>
        <p:spPr>
          <a:xfrm>
            <a:off x="285840" y="1352520"/>
            <a:ext cx="4279680" cy="4969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37040" y="1352520"/>
            <a:ext cx="3915000" cy="3914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4932360" y="5010120"/>
            <a:ext cx="391968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3" descr=""/>
          <p:cNvPicPr/>
          <p:nvPr/>
        </p:nvPicPr>
        <p:blipFill>
          <a:blip r:embed="rId2"/>
          <a:stretch/>
        </p:blipFill>
        <p:spPr>
          <a:xfrm>
            <a:off x="1731960" y="1884240"/>
            <a:ext cx="55958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ndwiching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introduces, i.e. makes reference to some idea from the 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concludes, i.e. explains what the quote means in relation to your poi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vising for conven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co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lete senten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gre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pital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nctu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l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52920" y="285840"/>
            <a:ext cx="4146480" cy="60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Understanding promp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context/occa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audie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purpo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subj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Brainstorm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rganizing thou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Thesis form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utlin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4724280" cy="6658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0" y="1315800"/>
            <a:ext cx="41148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Purpose and Context/Occa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72200" y="15998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urpose and Context/Oc-ca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981760" cy="665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47920" y="2209680"/>
          <a:ext cx="6095880" cy="32353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an 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uarant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rally 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alien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a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mmon s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Diagram 6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Effec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Diagram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nowball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 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ipple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+ Class + 3 Characteristic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haracteristic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haracteristic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haracteristic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8:10Z</dcterms:created>
  <dc:creator>swestbrook</dc:creator>
  <dc:description/>
  <dc:language>en-US</dc:language>
  <cp:lastModifiedBy>Westbrook, Susan</cp:lastModifiedBy>
  <dcterms:modified xsi:type="dcterms:W3CDTF">2010-02-24T18:23:25Z</dcterms:modified>
  <cp:revision>24</cp:revision>
  <dc:subject/>
  <dc:title>English II state Writing  assessment review workshop  </dc:title>
</cp:coreProperties>
</file>