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6.gif" ContentType="image/gif"/>
  <Override PartName="/ppt/media/image9.jpeg" ContentType="image/jpeg"/>
  <Override PartName="/ppt/media/image14.wmf" ContentType="image/x-wm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BC3A-FEB3-46F6-B5C3-9A01B2C84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F42A-A6E0-4CF2-8761-E6D7A7056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824-9AB3-4F8F-8748-FE832722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B79-3ADD-468D-80D0-D5CD6310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D0A-D58B-46EB-89F2-66DC6581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F96-9849-4462-8D4F-9EBCF385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DE5B-D3D3-45DB-B4FB-3CD5EB96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2C94-1F98-404C-A060-E59BBE7E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26D7-22D3-4F79-9339-FE4E9268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9677-3D67-47F9-8F79-9B7AA825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A212-4C05-4573-8CBA-B75EE8B5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EEE-71BD-4FA7-82EE-F51658EA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B0E-3E44-413E-97FD-C8452D3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55C-2E49-4961-87D8-906D9C8C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5F27-656D-4B3C-BE08-D3C6E155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D6B7-6389-4C20-8D9F-612EBCA0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BA71-9E55-4679-9CC6-59226C0B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A334-E744-460F-8994-27DE8DD6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EE1E-3869-4A57-A4C3-D2F5A1E6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87F9-F04E-4252-BAFB-4FE91272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FC59-3C31-4041-AE88-1807A8FA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B5D5-5851-45BA-825B-5C4EE9B6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E4DE-1D0D-45BD-8C7B-FE54B96B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E6D0-9A35-4382-8FF7-51296A65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538-B3BC-4003-92B5-3C5BFE59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0DC0-B8FF-4A3A-9182-B0878C04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9D67-D02F-4F20-A2A2-30ADA83B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FCAB-FD10-4AA1-9972-FB5E239B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A9A1-94A4-4027-8726-CEAE57D7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5B63-B6D2-4C36-BB03-9D059625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0BB3-B937-436D-8685-255DF124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6030-65B1-4D5D-AC4A-0AF5DA7F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8D630-A2CC-4998-BCEE-0C24F827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88CE-337C-45AE-A4B2-A906F146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971CF-5BBE-45BF-AA82-2F0788A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F28-DAD5-40C9-8022-50919F64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B621-5B0C-4F6E-BE79-A8CC66B8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F8B3-4154-4016-BD49-33B4FF7B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5DE9-2D4D-4331-9B32-AA6B63A9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B6B2-5D2F-40EB-9786-04CEBFA4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E9E3-732E-45FA-8776-33D12F84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7F81-F16F-4592-9980-132F77B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12102-E2B2-4549-A166-1BF4478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63E3-1CFB-4155-9DD5-AC28E08F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5234-1947-4B78-9603-FC529D81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1A5B2-C6B4-4250-852D-B6056E39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3BF-E079-4CD2-B88B-51F369D3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10C5E-EB79-4BCE-818D-6CA5937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B242-C944-44A5-96C6-191A4D46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6B377-ADE5-4460-BC16-D2C9024E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B8A4-449A-4D21-AC7E-B088B929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09536-DE18-4BE1-98A8-808D04A0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65AB7-E299-46CA-982F-57AD5DAE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055D5-5049-42C4-9732-282895DC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876C-24B2-42E6-BD7E-A00F0F7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6C47B-FBD3-406F-826A-E2B95F23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9521-B695-4EBD-9438-648D98D5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05B-A923-4C34-85CB-84EF49A5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86A7E-88E3-4B5F-BD86-7690D985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DD019-3292-4711-8BEB-D01EF21E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4D82A-8932-45D6-A41A-D373CFC2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5781F-EC91-4040-91AB-8F3F20CD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60A4C-A8DC-4A73-8CE7-900AD6C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BC9F1-1EB7-4810-8999-DF64AC04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6974E-F1F4-4116-9EDA-3044D8AE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91E4C-68A8-43BA-B583-CEAAA111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2F00C-D432-4C04-9BC4-D79C8E2E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B566-9CBE-49BB-A0C1-91BB0E01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1E9-21FF-4138-B0DF-C40F9C6D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9D428-522A-41DC-A6E4-D4BBE4ED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1190-FAD0-43E7-A28F-A594CA90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0DD1-6185-499F-9AC5-D184EFD0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8B892-A0FA-411E-9EEE-44B56734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FB7BD-FAA8-4DC9-BF70-099061CB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52BF-60EB-4893-B985-C3BBF70B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E3057-C237-4A4B-A49F-03751FE1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8A741-F2FD-44CD-92F6-2CB033C0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09F4E-812F-48F5-B0DB-5C3F927A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702A8-A724-483F-9F6A-D909E3F2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A94-D9E6-4E3A-A968-031574B8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04F08-FCAD-4ACE-8C89-13F24DE5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2B901-6878-4723-85B3-84D6B51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9A8FC-E81E-4326-B03B-942D31E5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FA05E-F995-41DC-958E-270AB270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00225-36F2-4646-8A96-9B377FBE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F68-56B4-401F-925C-166F0014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6694-6885-4329-817B-62B87D3AB23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7158-3109-452E-88FC-1947DB08510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E38B-D264-4FF9-9219-8A779EA1CB9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313-26B0-41A9-8EA4-EECDB8A47E1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37D0-CB9A-4CE8-904B-556E6AA15E7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F1E9-3E00-4A0E-9B37-F0FAF3D8B17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E5CB-017F-485E-B2FA-5ECF54589A3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512640" y="49320"/>
            <a:ext cx="8113680" cy="1657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676160" y="54097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Do I REALLY have to do this!?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2" descr="http://wwwcache.wral.com/asset/news/local/noteworthy/2009/01/30/4438634/Edgecombe_Laptops2MCH_edited-1-220x165.jpg"/>
          <p:cNvPicPr/>
          <p:nvPr/>
        </p:nvPicPr>
        <p:blipFill>
          <a:blip r:embed="rId2"/>
          <a:stretch/>
        </p:blipFill>
        <p:spPr>
          <a:xfrm>
            <a:off x="990720" y="1619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spygun.com/wp-content/uploads/2008/07/panic.jpg"/>
          <p:cNvPicPr/>
          <p:nvPr/>
        </p:nvPicPr>
        <p:blipFill>
          <a:blip r:embed="rId3"/>
          <a:stretch/>
        </p:blipFill>
        <p:spPr>
          <a:xfrm>
            <a:off x="5638680" y="259092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304920" y="5562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nstructional tool to help students reach their academic go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tudent centered, individualized opportunity to learn through the use of technolo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48320" y="4419720"/>
            <a:ext cx="4038480" cy="1977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:1 begins with the student and allows them to expand their world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5" descr="C:\Program Files\Microsoft Office\MEDIA\CAGCAT10\j0251301.wmf"/>
          <p:cNvPicPr/>
          <p:nvPr/>
        </p:nvPicPr>
        <p:blipFill>
          <a:blip r:embed="rId2"/>
          <a:stretch/>
        </p:blipFill>
        <p:spPr>
          <a:xfrm>
            <a:off x="5140440" y="1752480"/>
            <a:ext cx="3163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-49320" y="152280"/>
            <a:ext cx="927900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6840" y="205704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open to new teaching metho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ttend training ses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orporate new technology into your curricul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Documents and Settings\Janet Ivey\Local Settings\Temporary Internet Files\Content.IE5\IRXQ0KRK\MPj04423700000[1].jpg"/>
          <p:cNvPicPr/>
          <p:nvPr/>
        </p:nvPicPr>
        <p:blipFill>
          <a:blip r:embed="rId2"/>
          <a:stretch/>
        </p:blipFill>
        <p:spPr>
          <a:xfrm>
            <a:off x="6705720" y="1828800"/>
            <a:ext cx="2209680" cy="1468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Documents and Settings\Janet Ivey\Local Settings\Temporary Internet Files\Content.IE5\W1BRBUGO\MPj04423720000[1].jpg"/>
          <p:cNvPicPr/>
          <p:nvPr/>
        </p:nvPicPr>
        <p:blipFill>
          <a:blip r:embed="rId3"/>
          <a:stretch/>
        </p:blipFill>
        <p:spPr>
          <a:xfrm>
            <a:off x="6781680" y="5181480"/>
            <a:ext cx="2170080" cy="144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Janet Ivey\Local Settings\Temporary Internet Files\Content.IE5\MOS2I3ZP\MPj04423850000[1].jpg"/>
          <p:cNvPicPr/>
          <p:nvPr/>
        </p:nvPicPr>
        <p:blipFill>
          <a:blip r:embed="rId4"/>
          <a:stretch/>
        </p:blipFill>
        <p:spPr>
          <a:xfrm>
            <a:off x="6705720" y="3505320"/>
            <a:ext cx="21715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219240" y="96840"/>
            <a:ext cx="8669160" cy="1208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3623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Read your e-mails for updat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ttend school and department meeting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k!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C:\Documents and Settings\Janet Ivey\Local Settings\Temporary Internet Files\Content.IE5\093W9435\MCj04419020000[1].wmf"/>
          <p:cNvPicPr/>
          <p:nvPr/>
        </p:nvPicPr>
        <p:blipFill>
          <a:blip r:embed="rId2"/>
          <a:stretch/>
        </p:blipFill>
        <p:spPr>
          <a:xfrm>
            <a:off x="5708520" y="2362320"/>
            <a:ext cx="3095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334800" y="30240"/>
            <a:ext cx="8620200" cy="1384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28240" y="2209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et Ivey your CTE Department Train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ers in our Business Depart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urses online through Dell™. They 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ly completed at your convenience, an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igible for certificate renewal credit – an added bonu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1" descr="C:\Documents and Settings\Janet Ivey\Local Settings\Temporary Internet Files\Content.IE5\MOS2I3ZP\MCj00787940000[1].wmf"/>
          <p:cNvPicPr/>
          <p:nvPr/>
        </p:nvPicPr>
        <p:blipFill>
          <a:blip r:embed="rId2"/>
          <a:stretch/>
        </p:blipFill>
        <p:spPr>
          <a:xfrm>
            <a:off x="6934320" y="2514600"/>
            <a:ext cx="20239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2600" y="152280"/>
            <a:ext cx="915516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752480"/>
            <a:ext cx="2667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 !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Janet Ivey\Local Settings\Temporary Internet Files\Content.IE5\IRXQ0KRK\MMAG00290_0000[1].gif"/>
          <p:cNvPicPr/>
          <p:nvPr/>
        </p:nvPicPr>
        <p:blipFill>
          <a:blip r:embed="rId2"/>
          <a:stretch/>
        </p:blipFill>
        <p:spPr>
          <a:xfrm>
            <a:off x="2917800" y="1676520"/>
            <a:ext cx="592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1:24:13Z</dcterms:created>
  <dc:creator>Your User Name</dc:creator>
  <dc:description/>
  <dc:language>en-US</dc:language>
  <cp:lastModifiedBy>jaivey</cp:lastModifiedBy>
  <dcterms:modified xsi:type="dcterms:W3CDTF">2010-02-24T15:55:51Z</dcterms:modified>
  <cp:revision>21</cp:revision>
  <dc:subject/>
  <dc:title>Everything You Always Wanted to Know About VCS 1:1 Initiative</dc:title>
</cp:coreProperties>
</file>