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6.gif" ContentType="image/gif"/>
  <Override PartName="/ppt/media/image9.jpeg" ContentType="image/jpeg"/>
  <Override PartName="/ppt/media/image14.wmf" ContentType="image/x-wm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926B-4745-48C6-A424-FFCD32311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2561-B335-479B-ADD5-21D91B77E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6D2-D65C-48A0-BB1C-00E90D2B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41D-DBDA-4D8E-B1B7-BA3BC1C0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3A4-BFC5-4BC3-A16D-55780DCC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416-0230-48D0-BABD-DA417B89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3494-4027-4A79-A658-A3E7711F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800E-9238-40C9-B86E-A0B3D28D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4C29-9398-4022-929D-5BC579A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D972-F64B-4746-BEAD-F0316864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1403-64A0-4A04-82B4-18AA364E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D7AC-9678-46A6-90A6-424B2F6F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B78A-18A0-4D8A-A01C-8654B50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90E-044C-48A2-BA08-9CB5752E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DBE-466C-40B0-BCB9-EAE59B4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E0EA-A611-4AA3-8E7D-FA4B6EA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AEBE-13AE-4807-ADAE-C204A8CA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E3EA-816B-4FA5-B091-BF8F7D84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10E9-D825-4CF8-93D8-1F68BE5F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667C-7CE6-4A58-AC98-22D368C6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3B5B-7014-4945-BFE8-2EE03AFD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FCC0-63CE-4B5C-A33C-CD6BDB55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5A85-88F6-4DFE-9DE8-7ED958C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7EC2E-DC57-4E77-B975-88FE3D9D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2E0-31E6-427B-9225-D726BA9E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AA27A-47F2-4EF7-A863-3576211B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A198-70EE-473C-B0F7-A2492D4D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D31F2-6DDA-471E-9820-530ADDEC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B19F-57BC-42B3-BB87-0411DDED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216A-49E4-45CA-B47F-FEF5800F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77E61-F3E4-4A98-981E-A8C1AC36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C04E-BC3C-4FE8-8886-4C348202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AAE85-FA29-4C20-BCA3-1608CA5F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8142-7FFB-4E25-92B4-F3F12A57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3B64-5F23-400F-A2FF-A5F37F8B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1F8-BC4F-4DE4-89AD-3D7DD36D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FB0D4-EFEC-48AA-9708-DECEE10D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7CD0-D48D-4AC8-AB38-658403FB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A4EC3-5D29-4B56-8A2F-AEB08259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4139D-EEDA-473E-B149-F13BACED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4CAF-6910-48F2-82E9-1E76601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D076-B750-461A-8CAA-C4FDBB8D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97F2-EB92-403E-AACC-E303F683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619EF-158E-42BF-A823-EBAC0057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AD72-D15D-4CFB-AB17-C3F7D269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F17A-791C-457A-826A-F97D6514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B5E-39E5-4EC4-B270-2CA6B6A1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BF638-FE9E-4F85-8DBC-E7103245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2174-1CF0-4EF8-8419-EA79A413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082D4-39DA-4511-BF65-12FC5EB6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1F08D-2078-4CBD-B482-997A1C92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F5A57-DAF7-4CB9-90DD-C4840FBE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04114-3A15-4CAD-AB5E-D489D04F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5EDC-0707-4CFA-81E6-D970E8EF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B22FF-5375-4B49-BEB3-B3490D1A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F091-D6A6-4842-8BB8-D1F21A88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BAD9-2960-4B15-BAA0-E1844240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ABE-6D8E-47B5-9E6B-9B517836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DF413-E698-42D6-A544-41B33D96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816C8-D750-45A1-875F-323C61E1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26DA6-0CDC-42BC-8E6F-F30ED66C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32034-0F0E-4A38-83DC-397A67EB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C45C1-3FB1-4085-A9C0-403F5F1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1140A-6542-4169-AACE-0A8745A3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8533-5C94-4C49-9BDB-99548750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2E90F-CDCE-455F-B1A0-E0A2122C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28704-30F3-48B4-B4AC-94201121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D2510-64E3-43AE-8524-E054C8AA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AA1-4BFE-4FB5-B91E-900DBA6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ADC32-C909-4EE0-A2EF-E2109C15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117B-87BA-4D4D-9011-FE2F82C1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0AE7-C6F6-44D3-91E9-5B3377EC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B6954-6303-42AB-84BD-DFD2840C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02ED5-65CF-4D58-A656-0856AE21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714D7-CB33-42BB-B853-2849B9D1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B9C0D-9E28-4DED-B888-5C509978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2240C-E5A9-41A7-B8CA-4964FA3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60CB4-5359-47C4-88D2-EC32C12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7A2FE-78C4-4A35-94C2-961B4333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8B6-A700-4E94-AC29-5C3B88B2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1CA34-E5DE-4984-B208-6915A0CA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B8211-1E68-41BB-AFE3-34D7CF7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07214-7F5F-4CD7-9E90-9352DB19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C0A43-D8F4-4AB3-B5B3-E19D2647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991FA-6D3C-4660-8A60-4DFF5AA5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6DB-14D2-490D-B66F-779E749A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D30C-76A8-41AA-AC8B-2DA94511E00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A497-8799-48FB-B6C5-E5F2E0FE439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EC71-E0A1-497A-BDBC-8D427853A77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487C-5DF6-4394-8451-FD8ACADDD17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3B1C-448C-42F6-B2EE-068CAC85B83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FEA9-9AF9-4729-9543-5C7465EFC6D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BEE6-2287-4F13-8DF9-5CC75E83E01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512640" y="49320"/>
            <a:ext cx="8113680" cy="1657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676160" y="54097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Do I REALLY have to do this!?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2" descr="http://wwwcache.wral.com/asset/news/local/noteworthy/2009/01/30/4438634/Edgecombe_Laptops2MCH_edited-1-220x165.jpg"/>
          <p:cNvPicPr/>
          <p:nvPr/>
        </p:nvPicPr>
        <p:blipFill>
          <a:blip r:embed="rId2"/>
          <a:stretch/>
        </p:blipFill>
        <p:spPr>
          <a:xfrm>
            <a:off x="990720" y="1619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spygun.com/wp-content/uploads/2008/07/panic.jpg"/>
          <p:cNvPicPr/>
          <p:nvPr/>
        </p:nvPicPr>
        <p:blipFill>
          <a:blip r:embed="rId3"/>
          <a:stretch/>
        </p:blipFill>
        <p:spPr>
          <a:xfrm>
            <a:off x="5638680" y="2590920"/>
            <a:ext cx="3333960" cy="25048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304920" y="55627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nstructional tool to help students reach their academic goa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tudent centered, individualized opportunity to learn through the use of technolo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48320" y="4419720"/>
            <a:ext cx="4038480" cy="1977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:1 begins with the student and allows them to expand their world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5" descr="C:\Program Files\Microsoft Office\MEDIA\CAGCAT10\j0251301.wmf"/>
          <p:cNvPicPr/>
          <p:nvPr/>
        </p:nvPicPr>
        <p:blipFill>
          <a:blip r:embed="rId2"/>
          <a:stretch/>
        </p:blipFill>
        <p:spPr>
          <a:xfrm>
            <a:off x="5140440" y="1752480"/>
            <a:ext cx="3163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-49320" y="152280"/>
            <a:ext cx="927900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6840" y="205704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open to new teaching metho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ttend training ses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orporate new technology into your curriculu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Documents and Settings\Janet Ivey\Local Settings\Temporary Internet Files\Content.IE5\IRXQ0KRK\MPj04423700000[1].jpg"/>
          <p:cNvPicPr/>
          <p:nvPr/>
        </p:nvPicPr>
        <p:blipFill>
          <a:blip r:embed="rId2"/>
          <a:stretch/>
        </p:blipFill>
        <p:spPr>
          <a:xfrm>
            <a:off x="6705720" y="1828800"/>
            <a:ext cx="2209680" cy="1468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Documents and Settings\Janet Ivey\Local Settings\Temporary Internet Files\Content.IE5\W1BRBUGO\MPj04423720000[1].jpg"/>
          <p:cNvPicPr/>
          <p:nvPr/>
        </p:nvPicPr>
        <p:blipFill>
          <a:blip r:embed="rId3"/>
          <a:stretch/>
        </p:blipFill>
        <p:spPr>
          <a:xfrm>
            <a:off x="6781680" y="5181480"/>
            <a:ext cx="2170080" cy="1441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Janet Ivey\Local Settings\Temporary Internet Files\Content.IE5\MOS2I3ZP\MPj04423850000[1].jpg"/>
          <p:cNvPicPr/>
          <p:nvPr/>
        </p:nvPicPr>
        <p:blipFill>
          <a:blip r:embed="rId4"/>
          <a:stretch/>
        </p:blipFill>
        <p:spPr>
          <a:xfrm>
            <a:off x="6705720" y="3505320"/>
            <a:ext cx="21715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219240" y="96840"/>
            <a:ext cx="8669160" cy="1208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3623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Read your e-mails for updat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ttend school and department meeting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k!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C:\Documents and Settings\Janet Ivey\Local Settings\Temporary Internet Files\Content.IE5\093W9435\MCj04419020000[1].wmf"/>
          <p:cNvPicPr/>
          <p:nvPr/>
        </p:nvPicPr>
        <p:blipFill>
          <a:blip r:embed="rId2"/>
          <a:stretch/>
        </p:blipFill>
        <p:spPr>
          <a:xfrm>
            <a:off x="5708520" y="2362320"/>
            <a:ext cx="3095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334800" y="30240"/>
            <a:ext cx="8620200" cy="1384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228240" y="22093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et Ivey your CTE Department Train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ers in our Business Depart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urses online through Dell™. They 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ly completed at your convenience, an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igible for certificate renewal credit – an added bonu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1" descr="C:\Documents and Settings\Janet Ivey\Local Settings\Temporary Internet Files\Content.IE5\MOS2I3ZP\MCj00787940000[1].wmf"/>
          <p:cNvPicPr/>
          <p:nvPr/>
        </p:nvPicPr>
        <p:blipFill>
          <a:blip r:embed="rId2"/>
          <a:stretch/>
        </p:blipFill>
        <p:spPr>
          <a:xfrm>
            <a:off x="6934320" y="2514600"/>
            <a:ext cx="20239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2600" y="152280"/>
            <a:ext cx="915516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752480"/>
            <a:ext cx="266724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rbel"/>
              </a:rPr>
              <a:t>S !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Janet Ivey\Local Settings\Temporary Internet Files\Content.IE5\IRXQ0KRK\MMAG00290_0000[1].gif"/>
          <p:cNvPicPr/>
          <p:nvPr/>
        </p:nvPicPr>
        <p:blipFill>
          <a:blip r:embed="rId2"/>
          <a:stretch/>
        </p:blipFill>
        <p:spPr>
          <a:xfrm>
            <a:off x="2917800" y="1676520"/>
            <a:ext cx="592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1:24:13Z</dcterms:created>
  <dc:creator>Your User Name</dc:creator>
  <dc:description/>
  <dc:language>en-US</dc:language>
  <cp:lastModifiedBy>jaivey</cp:lastModifiedBy>
  <dcterms:modified xsi:type="dcterms:W3CDTF">2010-02-24T15:55:51Z</dcterms:modified>
  <cp:revision>21</cp:revision>
  <dc:subject/>
  <dc:title>Everything You Always Wanted to Know About VCS 1:1 Initiative</dc:title>
</cp:coreProperties>
</file>