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6.gif" ContentType="image/gif"/>
  <Override PartName="/ppt/media/image9.jpeg" ContentType="image/jpeg"/>
  <Override PartName="/ppt/media/image14.wmf" ContentType="image/x-wmf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D0ED-02C9-46CC-B74D-EC3B6864E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9962-4B1D-4830-8214-75CD45120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D43-BBCC-4EE9-B947-C6B18351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36D-9774-41FD-96D7-100CC8B9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598-8280-41B5-8BC8-ECC8702F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2B5-DB61-4213-9F14-1CE01785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70D5-A5B2-4AB7-A6FD-1CD7D8A5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1483-BC70-48B8-BA55-75508C19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22EE-398E-4D2D-A76E-17F2487C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A62F-B55F-42FD-BB36-F49B3F3A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321D-8BE3-4605-8457-97F5D6BA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E698-CFCA-492E-9C24-EB431E12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A516-E6CB-46C1-8A02-1ABE47E0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B6F-451E-4E5F-90F5-F4B9A7AE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092D-31AD-4673-A712-62DB97C8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6D3E-9322-4853-9973-095EAFB4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A675-27B3-4EB9-90B5-4432BE80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792C-2C13-415A-9D9A-12D2FB72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B1DC-413B-468C-BAAB-38D0B962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00EED-2445-4D55-A72F-E71A0050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1126F-48F5-47EB-9983-DF5CCA6A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E2820-0E21-4463-A2CC-FA00E1C0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A1C29-7AAC-4B1A-92E0-5FDD5A65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591BE-39E3-432C-9E29-3F6CB772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A34-6B4A-42E9-9A74-4B08557E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862F-9116-493A-B610-D45B804F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A647C-DEDD-4DF2-8C7F-D1096D93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521C-167F-4B73-A1AE-90A15F9E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9451D-711D-405E-A7E6-854D7D6A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FE453-2569-44DC-846C-A0FCCC21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4CABC-3659-4DE9-A6C8-6A1ADE61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A66F0-D2D0-4FE6-AEAA-F600B8C4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BEB13-1A9B-4154-AF58-16B49EF5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2F9E7-E949-4D42-8593-C954E44D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6DD8D-3026-4314-AD54-CE30FA73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420-F7CD-4BD6-9870-ABD90338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D9319-5246-4D86-8CAA-5A7897FE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664B4-5079-4DBD-93BB-84C0D0C6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2FCE1-0EFE-4590-BFE3-0E1880E8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664CB-2068-4019-B339-9FD0435A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5419E-74DF-4486-A3B8-52E59C5D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5D4C2-885E-462E-B78E-722B2CC8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F8410-0C88-4549-811A-D04AA7C9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817B4-C6A4-455A-A58B-3F63B8A4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A88CF-258C-4025-9657-0748B782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976F0-3BD5-434C-8AED-3501483B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5A5-DD51-4755-A665-0D2FC406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A7CA0-A2C1-49A6-BCDB-4FEF1757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CAA73-356D-48DB-A730-D433AE3B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60DBE-B8D3-4D0F-9412-5021616F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23945-2954-40EA-B7D5-14939AD4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48F72-F883-4508-825C-FEC5F893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AD99A-03F8-4633-A5AA-9A13C26C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5E9C8-A44F-4385-9C4C-C0873090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33D73-F754-42A1-8094-89022C06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69008-02AF-4E5E-B2F5-5C31C7C5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EEAA8-103B-45DC-A51B-973D71E7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727-524B-4460-81E5-8480AB1F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05FDF-CFD3-48CA-8F6E-486EB1A9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78AA0-7AE9-4BC0-B198-7251DD2B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F32A8-1D77-4A4E-911D-38CF8853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38F06-DADA-40D3-BDC8-BF0CA09D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8171A-B71F-4AEF-AC7E-486AC8F6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A8343-D563-4189-972E-FADC28C7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ECEAA-331E-421C-9D48-CB31D174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5DBE0-810A-49E3-8933-425C35DF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83965-28D9-41E4-914F-9EFE69FD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EB56B-9467-40FE-8AA7-7E0B827B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D20-6DCC-4155-B11B-53FBAB78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1C7F9-B55B-442D-92F8-58C29D0C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C50B0-6DA3-4836-8243-05345E05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C096A-BBBD-4C7C-8437-FA7F205D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39C3C-EA4F-459F-A9C0-15CAD2BE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90457-3EDB-4238-8515-51438B6F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E61DF-F3B7-482B-A41A-7DB387CC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BBC27-8DC5-4424-81FF-5F23D1E3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CFEA1-A99F-4B9F-BC13-58879BAF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DCF13-9502-4615-90A3-2B0E1466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9921D-C8F8-44AD-A217-7986BF2E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5BF-5F39-4CE5-B010-7188AEF3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E5778-594D-4050-A8E7-E1B6F983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3626E-F620-4B6F-8BD0-CEE65FCB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5E331-353F-408C-AA4B-C0EB4E64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F23F5-A4BD-4AB4-B683-3487DF83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00A17-9541-4DD0-BC05-60496073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D38-34C7-4210-932D-F7EBC8C4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CA87-300C-4EC6-8CB4-301507950DA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E278-EE87-461C-8D75-CBCC2150044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83B2-CC5E-4058-A8F5-B9595B793D0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57FE-35FA-492B-B297-69F3DA56A49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0EF2-F7DE-493F-BA07-930E4173889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3555-6106-4FD2-9E10-0D8C75AD96A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B84D-013B-452E-9239-95240105AB5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512640" y="49320"/>
            <a:ext cx="8113680" cy="16570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676160" y="54097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Do I REALLY have to do this!?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2" descr="http://wwwcache.wral.com/asset/news/local/noteworthy/2009/01/30/4438634/Edgecombe_Laptops2MCH_edited-1-220x165.jpg"/>
          <p:cNvPicPr/>
          <p:nvPr/>
        </p:nvPicPr>
        <p:blipFill>
          <a:blip r:embed="rId2"/>
          <a:stretch/>
        </p:blipFill>
        <p:spPr>
          <a:xfrm>
            <a:off x="990720" y="1619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spygun.com/wp-content/uploads/2008/07/panic.jpg"/>
          <p:cNvPicPr/>
          <p:nvPr/>
        </p:nvPicPr>
        <p:blipFill>
          <a:blip r:embed="rId3"/>
          <a:stretch/>
        </p:blipFill>
        <p:spPr>
          <a:xfrm>
            <a:off x="5638680" y="2590920"/>
            <a:ext cx="3333960" cy="250488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304920" y="5562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instructional tool to help students reach their academic goal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tudent centered, individualized opportunity to learn through the use of technolog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48320" y="4419720"/>
            <a:ext cx="4038480" cy="1977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:1 begins with the student and allows them to expand their world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Picture 5" descr="C:\Program Files\Microsoft Office\MEDIA\CAGCAT10\j0251301.wmf"/>
          <p:cNvPicPr/>
          <p:nvPr/>
        </p:nvPicPr>
        <p:blipFill>
          <a:blip r:embed="rId2"/>
          <a:stretch/>
        </p:blipFill>
        <p:spPr>
          <a:xfrm>
            <a:off x="5140440" y="1752480"/>
            <a:ext cx="3163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-49320" y="152280"/>
            <a:ext cx="927900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6840" y="205704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 open to new teaching metho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ttend training sess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orporate new technology into your curriculu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C:\Documents and Settings\Janet Ivey\Local Settings\Temporary Internet Files\Content.IE5\IRXQ0KRK\MPj04423700000[1].jpg"/>
          <p:cNvPicPr/>
          <p:nvPr/>
        </p:nvPicPr>
        <p:blipFill>
          <a:blip r:embed="rId2"/>
          <a:stretch/>
        </p:blipFill>
        <p:spPr>
          <a:xfrm>
            <a:off x="6705720" y="1828800"/>
            <a:ext cx="2209680" cy="1468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Documents and Settings\Janet Ivey\Local Settings\Temporary Internet Files\Content.IE5\W1BRBUGO\MPj04423720000[1].jpg"/>
          <p:cNvPicPr/>
          <p:nvPr/>
        </p:nvPicPr>
        <p:blipFill>
          <a:blip r:embed="rId3"/>
          <a:stretch/>
        </p:blipFill>
        <p:spPr>
          <a:xfrm>
            <a:off x="6781680" y="5181480"/>
            <a:ext cx="2170080" cy="1441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C:\Documents and Settings\Janet Ivey\Local Settings\Temporary Internet Files\Content.IE5\MOS2I3ZP\MPj04423850000[1].jpg"/>
          <p:cNvPicPr/>
          <p:nvPr/>
        </p:nvPicPr>
        <p:blipFill>
          <a:blip r:embed="rId4"/>
          <a:stretch/>
        </p:blipFill>
        <p:spPr>
          <a:xfrm>
            <a:off x="6705720" y="3505320"/>
            <a:ext cx="21715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219240" y="96840"/>
            <a:ext cx="8669160" cy="1208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236232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Read your e-mails for update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ttend school and department meeting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sk!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1" descr="C:\Documents and Settings\Janet Ivey\Local Settings\Temporary Internet Files\Content.IE5\093W9435\MCj04419020000[1].wmf"/>
          <p:cNvPicPr/>
          <p:nvPr/>
        </p:nvPicPr>
        <p:blipFill>
          <a:blip r:embed="rId2"/>
          <a:stretch/>
        </p:blipFill>
        <p:spPr>
          <a:xfrm>
            <a:off x="5708520" y="2362320"/>
            <a:ext cx="3095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334800" y="30240"/>
            <a:ext cx="8620200" cy="1384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228240" y="22093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anet Ivey your CTE Department Train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achers in our Business Depart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urses online through Dell™. They 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o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sily completed at your convenience, an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ligible for certificate renewal credit – an added bonus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1" descr="C:\Documents and Settings\Janet Ivey\Local Settings\Temporary Internet Files\Content.IE5\MOS2I3ZP\MCj00787940000[1].wmf"/>
          <p:cNvPicPr/>
          <p:nvPr/>
        </p:nvPicPr>
        <p:blipFill>
          <a:blip r:embed="rId2"/>
          <a:stretch/>
        </p:blipFill>
        <p:spPr>
          <a:xfrm>
            <a:off x="6934320" y="2514600"/>
            <a:ext cx="20239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2600" y="152280"/>
            <a:ext cx="915516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066320" y="1752480"/>
            <a:ext cx="266724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 !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4" descr="C:\Documents and Settings\Janet Ivey\Local Settings\Temporary Internet Files\Content.IE5\IRXQ0KRK\MMAG00290_0000[1].gif"/>
          <p:cNvPicPr/>
          <p:nvPr/>
        </p:nvPicPr>
        <p:blipFill>
          <a:blip r:embed="rId2"/>
          <a:stretch/>
        </p:blipFill>
        <p:spPr>
          <a:xfrm>
            <a:off x="2917800" y="1676520"/>
            <a:ext cx="592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1:24:13Z</dcterms:created>
  <dc:creator>Your User Name</dc:creator>
  <dc:description/>
  <dc:language>en-US</dc:language>
  <cp:lastModifiedBy>jaivey</cp:lastModifiedBy>
  <dcterms:modified xsi:type="dcterms:W3CDTF">2010-02-24T15:55:51Z</dcterms:modified>
  <cp:revision>21</cp:revision>
  <dc:subject/>
  <dc:title>Everything You Always Wanted to Know About VCS 1:1 Initiative</dc:title>
</cp:coreProperties>
</file>