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6.gif" ContentType="image/gif"/>
  <Override PartName="/ppt/media/image9.jpeg" ContentType="image/jpeg"/>
  <Override PartName="/ppt/media/image14.wmf" ContentType="image/x-wmf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1BC4-8430-4C50-9F15-7D2944F40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B997-E040-4DAE-AA52-44451EF0F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0DA-8A10-488A-BB3E-2F52476A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192-C1E0-4D39-A552-1FFBE97A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7A9-8B0D-4AA0-8423-DCA91826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110-7A92-4736-9A35-F5E2E3EE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A9B6-8F9A-4419-ACE8-4E1C590D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C9EF-E8FF-41F8-9FED-9D20AFE7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1066-D055-4F76-AE3C-5D071FBB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E989-BE4C-4C5A-81A1-42A8CE70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B023-D8FF-4CDC-A495-A8B66BF9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E82D-4BF3-4F2F-B463-8D31BC2A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66A2-3A4F-4DFB-8845-E99D04CA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F95-4107-4758-85F0-621C4C68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7324-CCE7-4115-8CD1-1544F1B2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0A7A-25BD-429F-A5B3-2A8B94DE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7A7A-F96A-462B-A0D6-48B54809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17A8-3037-4C7A-BB8D-EE1B83E2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4AAE-F22E-49C9-B624-89264CAC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7085B-5AAA-488E-8360-F6E549A8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41E00-2D16-4B62-AC2D-26D6BD19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7024D-087F-498E-BC2F-3AA6C6FD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94C92-6B14-4440-8BE2-2FEEF456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7602-FB69-42BA-AB09-E0677993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B10-5C0E-446A-BC86-A4DC116B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35B51-9C12-46E1-9A06-8A067560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DF379-48CE-4FF9-BC35-0740218A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7708-F61E-4C23-B282-6C34EE32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29435-9B43-453E-9030-2FB5B0BE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C8C8B-41A9-40C9-B6AD-71D17CDA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1E8C0-369B-4EE6-B6A9-62C3F157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A71B8-1FBF-4273-A23B-1E5DD821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35232-CF63-4AFF-AE91-2A64E30E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98A8F-3C28-42B9-AB8D-70831A81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8CBE7-6ED8-40CA-B897-9951A89C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BA8-54B0-4DA2-9F8E-1AEA4A96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A620C-6C51-45B4-90AE-1F9E9E4F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CCA48-4D14-4073-BDB0-45D7ECB9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10880-C73F-4420-A9C3-2B8C7088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BB6E7-DDB1-455A-9DFF-10B436A5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5F156-A103-4CB0-9055-39C6A585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FF08B-8BC8-4990-9176-2F5ED966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47457-C9C2-4314-BB72-64864077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CABB3-C939-456D-A6A6-C1E0CD4A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ED1FE-08BF-4AC2-A2DC-AA0F2102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1F51D-4715-45EA-93E1-522AAA4D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7D6-6F2A-4C18-B724-7A11F6C4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03346-BA88-4309-8929-82DB12FD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A6CDC-0E10-4EDB-BB7C-4E45BA1F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02C90-B4DC-488F-AE9F-F11514BA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2E707-3D16-43B9-BAE3-EB3C2BAC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18857-32A5-49B3-BAF9-2F67D055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EC513-3AE4-4B6C-9C64-E17F34F1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1E076-79AF-4958-BDDC-58839C8A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F8B60-6A94-4C73-8CF4-AEB6657D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5F9BD-F7FA-4B40-AEC9-FDC151D8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F2D01-321F-41F0-9A22-FC13421E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9A8-3A94-4311-B874-4FEF35A1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40856-0229-4CA7-B059-5BC6A3DC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6AEC5-4830-4FBB-B182-771EF46D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E63DF-A679-4BA3-84A6-6D25413C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9793F-1508-4BE6-BA25-B65A79C7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36690-22BF-4798-9812-242FC918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62C01-E8AE-4B51-9186-761CFAE0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B3999-0A8C-4702-AD8F-49ECAC01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ACC13-FE84-4B05-B7B8-A1AC4A6A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77CB2-225D-4429-B5C9-A438BCD9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82EC5-8D03-46C2-BB8E-69EBD239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2A7-C4C8-4516-9781-509E99F4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2AF7F-D5AA-4D1F-9BCC-9CB203AB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0E68D-A8E7-4D3A-AB1D-8A2D801C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58AF6-A4C0-4501-858C-9958B344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80AE4-147F-4A79-89D2-07D28A9B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09F96-6C14-48C7-BA3A-96070666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C47E2-7F5B-4EF6-A69E-93AB01B4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82C09-323C-4092-9DC1-76ADB6E4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B7069-4C73-42EE-BEA5-319A2C50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4329F-4E7D-4E02-99EE-F825848E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BD812-CF5E-45E8-9643-0D2C47E2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87C-BAF1-4E91-918A-1BD6523A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520F6-D6DA-440B-8287-78D48BAE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6CE3D-A4A5-4D56-A811-88005FBE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399FC-8B07-48E4-AB98-A8CF6D5C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336E0-64CE-46E3-A5ED-64F77AE2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FE606-554F-4680-84CD-2E9543A6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980-0B74-468E-8440-EFA6AA2E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CB02-33D0-4BB8-B80F-D8B79F3DAB9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ED2E-2737-4483-87C5-C56BC415A6F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E8A9-1E2B-4933-8278-99D0701927E9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5A45-C989-467F-9180-59CE9E07BEB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C36A-2361-40AA-9F54-39FCF893835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12CD-909B-4804-9461-62D6B7F323B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C2EA-8B6B-4665-BB30-4BC68832C89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512640" y="49320"/>
            <a:ext cx="8113680" cy="16570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676160" y="54097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Do I REALLY have to do this!?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2" descr="http://wwwcache.wral.com/asset/news/local/noteworthy/2009/01/30/4438634/Edgecombe_Laptops2MCH_edited-1-220x165.jpg"/>
          <p:cNvPicPr/>
          <p:nvPr/>
        </p:nvPicPr>
        <p:blipFill>
          <a:blip r:embed="rId2"/>
          <a:stretch/>
        </p:blipFill>
        <p:spPr>
          <a:xfrm>
            <a:off x="990720" y="1619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spygun.com/wp-content/uploads/2008/07/panic.jpg"/>
          <p:cNvPicPr/>
          <p:nvPr/>
        </p:nvPicPr>
        <p:blipFill>
          <a:blip r:embed="rId3"/>
          <a:stretch/>
        </p:blipFill>
        <p:spPr>
          <a:xfrm>
            <a:off x="5638680" y="2590920"/>
            <a:ext cx="3333960" cy="250488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304920" y="5562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instructional tool to help students reach their academic goal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tudent centered, individualized opportunity to learn through the use of technolog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48320" y="4419720"/>
            <a:ext cx="4038480" cy="1977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:1 begins with the student and allows them to expand their world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Picture 5" descr="C:\Program Files\Microsoft Office\MEDIA\CAGCAT10\j0251301.wmf"/>
          <p:cNvPicPr/>
          <p:nvPr/>
        </p:nvPicPr>
        <p:blipFill>
          <a:blip r:embed="rId2"/>
          <a:stretch/>
        </p:blipFill>
        <p:spPr>
          <a:xfrm>
            <a:off x="5140440" y="1752480"/>
            <a:ext cx="3163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-49320" y="152280"/>
            <a:ext cx="927900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6840" y="205704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 open to new teaching metho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ttend training sess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orporate new technology into your curriculu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C:\Documents and Settings\Janet Ivey\Local Settings\Temporary Internet Files\Content.IE5\IRXQ0KRK\MPj04423700000[1].jpg"/>
          <p:cNvPicPr/>
          <p:nvPr/>
        </p:nvPicPr>
        <p:blipFill>
          <a:blip r:embed="rId2"/>
          <a:stretch/>
        </p:blipFill>
        <p:spPr>
          <a:xfrm>
            <a:off x="6705720" y="1828800"/>
            <a:ext cx="2209680" cy="1468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Documents and Settings\Janet Ivey\Local Settings\Temporary Internet Files\Content.IE5\W1BRBUGO\MPj04423720000[1].jpg"/>
          <p:cNvPicPr/>
          <p:nvPr/>
        </p:nvPicPr>
        <p:blipFill>
          <a:blip r:embed="rId3"/>
          <a:stretch/>
        </p:blipFill>
        <p:spPr>
          <a:xfrm>
            <a:off x="6781680" y="5181480"/>
            <a:ext cx="2170080" cy="1441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C:\Documents and Settings\Janet Ivey\Local Settings\Temporary Internet Files\Content.IE5\MOS2I3ZP\MPj04423850000[1].jpg"/>
          <p:cNvPicPr/>
          <p:nvPr/>
        </p:nvPicPr>
        <p:blipFill>
          <a:blip r:embed="rId4"/>
          <a:stretch/>
        </p:blipFill>
        <p:spPr>
          <a:xfrm>
            <a:off x="6705720" y="3505320"/>
            <a:ext cx="21715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219240" y="96840"/>
            <a:ext cx="8669160" cy="1208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236232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Read your e-mails for update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ttend school and department meeting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sk!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1" descr="C:\Documents and Settings\Janet Ivey\Local Settings\Temporary Internet Files\Content.IE5\093W9435\MCj04419020000[1].wmf"/>
          <p:cNvPicPr/>
          <p:nvPr/>
        </p:nvPicPr>
        <p:blipFill>
          <a:blip r:embed="rId2"/>
          <a:stretch/>
        </p:blipFill>
        <p:spPr>
          <a:xfrm>
            <a:off x="5708520" y="2362320"/>
            <a:ext cx="3095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334800" y="30240"/>
            <a:ext cx="8620200" cy="1384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228240" y="22093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anet Ivey your CTE Department Train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achers in our Business Depart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urses online through Dell™. They 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o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sily completed at your convenience, an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ligible for certificate renewal credit – an added bonus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1" descr="C:\Documents and Settings\Janet Ivey\Local Settings\Temporary Internet Files\Content.IE5\MOS2I3ZP\MCj00787940000[1].wmf"/>
          <p:cNvPicPr/>
          <p:nvPr/>
        </p:nvPicPr>
        <p:blipFill>
          <a:blip r:embed="rId2"/>
          <a:stretch/>
        </p:blipFill>
        <p:spPr>
          <a:xfrm>
            <a:off x="6934320" y="2514600"/>
            <a:ext cx="20239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2600" y="152280"/>
            <a:ext cx="915516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066320" y="1752480"/>
            <a:ext cx="266724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 !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4" descr="C:\Documents and Settings\Janet Ivey\Local Settings\Temporary Internet Files\Content.IE5\IRXQ0KRK\MMAG00290_0000[1].gif"/>
          <p:cNvPicPr/>
          <p:nvPr/>
        </p:nvPicPr>
        <p:blipFill>
          <a:blip r:embed="rId2"/>
          <a:stretch/>
        </p:blipFill>
        <p:spPr>
          <a:xfrm>
            <a:off x="2917800" y="1676520"/>
            <a:ext cx="592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1:24:13Z</dcterms:created>
  <dc:creator>Your User Name</dc:creator>
  <dc:description/>
  <dc:language>en-US</dc:language>
  <cp:lastModifiedBy>jaivey</cp:lastModifiedBy>
  <dcterms:modified xsi:type="dcterms:W3CDTF">2010-02-24T15:55:51Z</dcterms:modified>
  <cp:revision>21</cp:revision>
  <dc:subject/>
  <dc:title>Everything You Always Wanted to Know About VCS 1:1 Initiative</dc:title>
</cp:coreProperties>
</file>