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16.gif" ContentType="image/gif"/>
  <Override PartName="/ppt/media/image9.jpeg" ContentType="image/jpeg"/>
  <Override PartName="/ppt/media/image14.wmf" ContentType="image/x-wmf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11.png" ContentType="image/png"/>
  <Override PartName="/ppt/media/image6.wmf" ContentType="image/x-wmf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5751-6D95-4849-9AC2-3C9124780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25C7-B9CA-4BED-BEBD-68967206F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681-5DA8-448A-9180-CAD72868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DD5-4D37-46EB-BC02-2E5147BE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660B-D1AD-41F5-AD7D-B46B5DFD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B0F-D480-4063-9F08-66502DE9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4A1F-5547-4934-8748-DBB4D924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4BBD-A511-40B7-AD49-FF693B61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93D0-1D23-42BB-9B0B-E9236FE0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6064-E72D-482C-B7FC-5776A051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875C-6DA2-41F5-95CC-4F2BC5D3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907B-8FAC-4089-94D2-DCD42178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0151-4224-4CB8-B075-4691C512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C33-BB07-4CD9-99F8-D8D77883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302E-6A74-4E2E-A001-D723D4BB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D055-B410-4082-9495-45EBD8D6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B962-B64C-44F0-B156-562ABE65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717B-56B8-4024-9C1C-8C98D63D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1EEF-138F-450A-9939-F502E19B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94D4B-7E55-4611-A549-55C1E6AC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52E0A-D0EC-4360-8532-2D2DD6C3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D0BE8-49D0-4326-A76D-9C31BE89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487EE-4751-4F11-84D6-9677C9B1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9D64F-BAF7-4928-B1DC-4325E185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325-544F-49B3-A0F7-DC26795D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8F14A-1E34-4FE6-BAFE-941C45F0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F1DFE-FA1D-4B86-A440-BBAD1B80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FF40B-02B4-4E5C-BC66-BA0FE8C7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7EA15-732F-4D4E-ADD9-6066BD87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D2C20-EBB1-49D1-B54D-F93973C0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31944-DF3A-42B0-9D6C-837DB95F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15DA5-A371-4838-87B6-CCB7BCAC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6E91F-CCB7-4494-8974-9D4E205F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1530C-42A6-45E4-9168-C9702003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B0422-C016-498C-A4A9-DA9AEBE6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8AB4-05A4-4A3D-B382-57A48FCC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00E62-7EDD-47DD-A0A0-A11BFCEC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3443C-0F7F-427B-8A18-D31FDD30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A06A9-9FF9-4BA7-B115-80C75EF8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40D2C-F039-4E1F-82E0-60EED291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5332A-4784-4FB0-80FC-4D58A4A9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342F1-5C60-4652-A1E7-72493A38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C829C-5E33-427A-984D-E96C0397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CCF3D-C7E4-4BDA-A24C-A80E0CAF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7013C-9C60-47B7-85BC-F0BA412B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EECC7-1E41-454F-8EDE-C3B7915A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99F-B285-491E-8E18-76251F96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2368A-E81F-410A-9715-CEB59D52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95BF7-A151-41C6-8699-F7596E09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471C0-F1F9-4E4E-9013-E46BEA25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34430-A9C6-4DBE-BBCA-52A295DA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FEF80-C127-4B61-B0E2-8F84F6CB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6E945-BBC7-48DF-B0B0-BF697BB5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EABEC-4062-4D6A-9EAA-C6B45983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4B5FF-13FE-451A-BB9F-8DAEEA16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F836B-F4CA-4E98-9B9C-823F4BF3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3AB99-56A9-46F9-A5EF-B49B37AA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EB7-3BB7-4622-BEED-F7F4C1FF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F40A0-8065-47D0-B3FD-C2560398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CA284-8CF2-4798-81DB-7CFC329D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F103F-25DA-4B8B-8C2A-137775EA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D6E0B-9CBB-45BB-B88F-DA30C245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5614C-E65D-4892-B227-D05B6D8E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8F091-FF82-47AC-A1C0-18295FE9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7F53C-CBE0-4B6D-A814-FCB16917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B71F7-383B-4877-8B8E-5669773E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D0AB9-69C7-4089-AE88-6B6B1063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BD7F6-1F24-4B80-8E61-BE4E297A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4D6-CF69-42B4-9B16-E413EB28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EEA0B-7635-4E28-A077-665E7F64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E7169-2591-4F6E-822E-3D6BEC82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59BA2-0148-4754-9743-A13BD197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2650F-C15F-4B43-AC74-4A63B4CA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5BDA2-74E3-41A7-87FB-84F83004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72BFA-BEA3-4D43-B0D2-02A7C12E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AF81F-15E2-4DA7-A028-A9728FDC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25682-A1B3-451C-BE73-E37A72D9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CA54C-92B5-4150-B042-D9EE8E6B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463F7-BBD7-475C-8599-1DB1FCFA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B5D-44CE-4A6E-9BAF-051D0D27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68AFC-3EDF-4913-A75F-22791285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6DE24-E62F-4032-8207-F2A74525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C5CC2-0C48-49BB-A56C-B4C5EC35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60499-1F2E-46CA-8412-1ABAE13E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950CA-FFB8-4387-A2E2-D8143204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2AC-C2D1-40E7-868A-E03A62BB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F040-4FAB-4201-B599-BFD31236D72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346C-7DFF-4199-B8D7-BA21A6C1CC11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A558-0C81-4208-9F2A-12CAB22269C5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F0BC-DF54-4A79-8F67-173F4C8A5DD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C4B0-86E7-4066-9F21-E60B469C4B5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1A58-C764-42F0-B125-07C0A3D237E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9350-7476-4D1A-AFFD-BAC16B58AF4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512640" y="49320"/>
            <a:ext cx="8113680" cy="16570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676160" y="54097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Do I REALLY have to do this!?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Picture 2" descr="http://wwwcache.wral.com/asset/news/local/noteworthy/2009/01/30/4438634/Edgecombe_Laptops2MCH_edited-1-220x165.jpg"/>
          <p:cNvPicPr/>
          <p:nvPr/>
        </p:nvPicPr>
        <p:blipFill>
          <a:blip r:embed="rId2"/>
          <a:stretch/>
        </p:blipFill>
        <p:spPr>
          <a:xfrm>
            <a:off x="990720" y="1619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www.spygun.com/wp-content/uploads/2008/07/panic.jpg"/>
          <p:cNvPicPr/>
          <p:nvPr/>
        </p:nvPicPr>
        <p:blipFill>
          <a:blip r:embed="rId3"/>
          <a:stretch/>
        </p:blipFill>
        <p:spPr>
          <a:xfrm>
            <a:off x="5638680" y="2590920"/>
            <a:ext cx="3333960" cy="2504880"/>
          </a:xfrm>
          <a:prstGeom prst="rect">
            <a:avLst/>
          </a:prstGeom>
          <a:ln w="0">
            <a:noFill/>
          </a:ln>
        </p:spPr>
      </p:pic>
      <p:sp>
        <p:nvSpPr>
          <p:cNvPr id="314" name="TextBox 5"/>
          <p:cNvSpPr/>
          <p:nvPr/>
        </p:nvSpPr>
        <p:spPr>
          <a:xfrm>
            <a:off x="304920" y="55627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instructional tool to help students reach their academic goal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student centered, individualized opportunity to learn through the use of technolog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648320" y="4419720"/>
            <a:ext cx="4038480" cy="1977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:1 begins with the student and allows them to expand their world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8" name="Picture 5" descr="C:\Program Files\Microsoft Office\MEDIA\CAGCAT10\j0251301.wmf"/>
          <p:cNvPicPr/>
          <p:nvPr/>
        </p:nvPicPr>
        <p:blipFill>
          <a:blip r:embed="rId2"/>
          <a:stretch/>
        </p:blipFill>
        <p:spPr>
          <a:xfrm>
            <a:off x="5140440" y="1752480"/>
            <a:ext cx="3163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-49320" y="152280"/>
            <a:ext cx="927900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6840" y="205704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 open to new teaching metho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ttend training sess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corporate new technology into your curriculu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C:\Documents and Settings\Janet Ivey\Local Settings\Temporary Internet Files\Content.IE5\IRXQ0KRK\MPj04423700000[1].jpg"/>
          <p:cNvPicPr/>
          <p:nvPr/>
        </p:nvPicPr>
        <p:blipFill>
          <a:blip r:embed="rId2"/>
          <a:stretch/>
        </p:blipFill>
        <p:spPr>
          <a:xfrm>
            <a:off x="6705720" y="1828800"/>
            <a:ext cx="2209680" cy="1468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Documents and Settings\Janet Ivey\Local Settings\Temporary Internet Files\Content.IE5\W1BRBUGO\MPj04423720000[1].jpg"/>
          <p:cNvPicPr/>
          <p:nvPr/>
        </p:nvPicPr>
        <p:blipFill>
          <a:blip r:embed="rId3"/>
          <a:stretch/>
        </p:blipFill>
        <p:spPr>
          <a:xfrm>
            <a:off x="6781680" y="5181480"/>
            <a:ext cx="2170080" cy="1441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C:\Documents and Settings\Janet Ivey\Local Settings\Temporary Internet Files\Content.IE5\MOS2I3ZP\MPj04423850000[1].jpg"/>
          <p:cNvPicPr/>
          <p:nvPr/>
        </p:nvPicPr>
        <p:blipFill>
          <a:blip r:embed="rId4"/>
          <a:stretch/>
        </p:blipFill>
        <p:spPr>
          <a:xfrm>
            <a:off x="6705720" y="3505320"/>
            <a:ext cx="21715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219240" y="96840"/>
            <a:ext cx="8669160" cy="1208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236232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Read your e-mails for update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ttend school and department meeting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sk!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1" descr="C:\Documents and Settings\Janet Ivey\Local Settings\Temporary Internet Files\Content.IE5\093W9435\MCj04419020000[1].wmf"/>
          <p:cNvPicPr/>
          <p:nvPr/>
        </p:nvPicPr>
        <p:blipFill>
          <a:blip r:embed="rId2"/>
          <a:stretch/>
        </p:blipFill>
        <p:spPr>
          <a:xfrm>
            <a:off x="5708520" y="2362320"/>
            <a:ext cx="3095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334800" y="30240"/>
            <a:ext cx="8620200" cy="1384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228240" y="22093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anet Ivey your CTE Department Train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achers in our Business Depart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urses online through Dell™. They 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hor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asily completed at your convenience, and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ligible for certificate renewal credit – an added bonus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1" descr="C:\Documents and Settings\Janet Ivey\Local Settings\Temporary Internet Files\Content.IE5\MOS2I3ZP\MCj00787940000[1].wmf"/>
          <p:cNvPicPr/>
          <p:nvPr/>
        </p:nvPicPr>
        <p:blipFill>
          <a:blip r:embed="rId2"/>
          <a:stretch/>
        </p:blipFill>
        <p:spPr>
          <a:xfrm>
            <a:off x="6934320" y="2514600"/>
            <a:ext cx="20239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2600" y="152280"/>
            <a:ext cx="915516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066320" y="1752480"/>
            <a:ext cx="266724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S !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4" descr="C:\Documents and Settings\Janet Ivey\Local Settings\Temporary Internet Files\Content.IE5\IRXQ0KRK\MMAG00290_0000[1].gif"/>
          <p:cNvPicPr/>
          <p:nvPr/>
        </p:nvPicPr>
        <p:blipFill>
          <a:blip r:embed="rId2"/>
          <a:stretch/>
        </p:blipFill>
        <p:spPr>
          <a:xfrm>
            <a:off x="2917800" y="1676520"/>
            <a:ext cx="5921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1:24:13Z</dcterms:created>
  <dc:creator>Your User Name</dc:creator>
  <dc:description/>
  <dc:language>en-US</dc:language>
  <cp:lastModifiedBy>jaivey</cp:lastModifiedBy>
  <dcterms:modified xsi:type="dcterms:W3CDTF">2010-02-24T15:55:51Z</dcterms:modified>
  <cp:revision>21</cp:revision>
  <dc:subject/>
  <dc:title>Everything You Always Wanted to Know About VCS 1:1 Initiative</dc:title>
</cp:coreProperties>
</file>