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16.gif" ContentType="image/gif"/>
  <Override PartName="/ppt/media/image9.jpeg" ContentType="image/jpeg"/>
  <Override PartName="/ppt/media/image14.wmf" ContentType="image/x-wmf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11.png" ContentType="image/png"/>
  <Override PartName="/ppt/media/image6.wmf" ContentType="image/x-wmf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1F44-D826-42F0-9AE9-5730B0223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4130-3C17-4BBD-A853-65787336E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818E-AA92-4D5A-9CE2-7CC1C746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030-8AF3-470D-A1AC-6304789A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E42-7C49-4550-9A25-2C922218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2188-2E18-46E9-8DC8-19F0F7AB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7CA5-D759-47E7-8C94-F7EF4516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0047-401B-46A9-81CF-3123F734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EFB8-6507-44E9-9025-282B8DCA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AFEA-0987-4449-98A1-280EB602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3EB0-B9BF-4098-8BA8-CC8387AA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1680-E11E-4B99-BFF4-67F8A271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E9A4-7A78-43E4-BA49-22D9FBC6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705-7350-4613-BBA5-B26CB677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4A5C-35FA-479C-AE65-F86FF8E5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9A23-0F6C-48AE-9402-75620549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591D-FED2-4ED9-88B8-7B8AB591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D8E1-4C0C-43EE-A7AE-448BA918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4B28-CB39-4D91-9536-9C98C8E5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1BF6C-7CE5-49EB-8C3C-BB4B5064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F5775-A8F6-41AD-8F0B-B60CE700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A21AB-9F55-47DA-BF02-E8A916EB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0E2A3-418D-4422-9577-4044E052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100CE-7A90-4210-9331-07EB22CE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103-D0AB-475A-A1B5-B92B37A0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F9F31-3733-4F47-B861-61DB54E5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A8CA8-1D1B-45D2-8C0F-796E9718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698FA-F460-4CCD-AAF0-25BAD379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2D19F-F4ED-4385-919E-17B77D96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EA6C2-5934-4D32-9ABA-1B257382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19D71-E5E8-47D6-9AD0-9F5A1060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EEB90-9C89-4663-ADC0-68282BCF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0A34D-6ACE-4B18-AAB8-FFC448D4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8CE77-D644-4AB9-9021-A0770382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3DE8C-C879-4A93-812A-C1F97CB3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3AD-8990-4EC5-9A77-36328999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992A7-C44B-4537-8EBF-A08E1DD7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EDF32-4736-4625-9BDB-4C4C4DA9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5DF8C-D8E2-4BB4-ADE3-98DDB06E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FAE06-D989-4F43-81BC-348ABED4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47744-CC9D-4652-BF76-6C93D261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98F8E-2D16-447A-B20C-00AA7D4B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C9FF7-62FE-44EE-A2F9-345B5AE9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2D3AE-29AA-46DE-9FEA-8D98A0A9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23D21-2BED-4DC3-BE32-F66F8CF0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B76B7-DCD2-4442-B122-D0B993D4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4AE1-48FF-46EB-8A4E-DEFAD8C4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59982-D3C9-4B8F-9EF1-6D155F5E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915CE-FFD8-4ED9-B603-76E2E8D4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516EC-C9C0-4508-BF93-D1EE8751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5FF08-D9D8-4C86-9441-1146A3D5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29800-45DD-4E85-B7E1-E1A2EFD6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797D9-0062-482D-B007-6D696C6F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D3482-852F-474A-A17F-0B8881E3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1C2CF-F483-486A-AE32-588F5082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0D7CB-168F-47AB-B3EB-EAFB87AA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04F54-DE18-4A7B-A8F0-CA0BB7F4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D2C9-1359-4293-AAB2-0D21AF8A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8632B-B855-4B05-A797-24A211C9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B216E-B466-4074-A46E-48B59A0B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866D8-87D7-40DE-9C8C-7B247EF5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99F6E-2E48-4869-9243-0BB280AB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EC66D-6882-40AA-9364-17F5768E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A5211-9C09-4298-918C-F39462FB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9EBB3-BADF-4224-84DB-B929B054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DD25C-7107-4C97-9898-DB4E0101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99851-3FEF-4508-9009-CF020901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EE529-5F0C-4B7C-A593-E2F1F439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14F0-C742-43E6-9F66-05589446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9A86A-FCB9-4571-9433-31A18139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71066-592D-4992-8154-23A23235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BF00C-BE35-4A81-BFC0-6DB1EDBA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8108B-538C-48E3-A6DB-D0E8B5D9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0BDE3-9354-4FEA-9E3C-F8F2F0FA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FE8A1-6BAB-4943-A0DA-634911E8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9BF4D-7FB9-4089-9C22-A3F7A769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FA9F1-1F5E-4BF5-8ED1-141F64C7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6042B-8DCC-4E6F-B9DF-2115FAD4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222B9-1967-4BE9-9047-4C2441BF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3B7B-05CE-441C-AB86-E0E809EE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00D68-C0CA-42B8-8BA7-21F64D2F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E3475-EDC2-43F4-BC7A-E873A694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5DDB8-E702-4863-93D0-F1656881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33C4E-293E-4817-BFBD-5917053E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C73D6-A730-47F5-AB56-373D824C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48EA-AC28-42E6-8E2A-7AA254DC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5D6C-F48B-4207-A8C1-E86E8D45924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1EE4-55E8-4524-9121-6C18002109FE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8BC5-026A-4D74-A611-D81BD945ACE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FA79-9B11-4A87-85DA-4722E4EBF21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9B00-9397-4A6D-A16B-DA9C6778284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5C5C-427D-442C-9E90-E1C484A04B5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28A8-F54B-41C6-836F-992FE0CB39A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512640" y="49320"/>
            <a:ext cx="8113680" cy="16570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676160" y="54097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Do I REALLY have to do this!?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Picture 2" descr="http://wwwcache.wral.com/asset/news/local/noteworthy/2009/01/30/4438634/Edgecombe_Laptops2MCH_edited-1-220x165.jpg"/>
          <p:cNvPicPr/>
          <p:nvPr/>
        </p:nvPicPr>
        <p:blipFill>
          <a:blip r:embed="rId2"/>
          <a:stretch/>
        </p:blipFill>
        <p:spPr>
          <a:xfrm>
            <a:off x="990720" y="1619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www.spygun.com/wp-content/uploads/2008/07/panic.jpg"/>
          <p:cNvPicPr/>
          <p:nvPr/>
        </p:nvPicPr>
        <p:blipFill>
          <a:blip r:embed="rId3"/>
          <a:stretch/>
        </p:blipFill>
        <p:spPr>
          <a:xfrm>
            <a:off x="5638680" y="2590920"/>
            <a:ext cx="3333960" cy="2504880"/>
          </a:xfrm>
          <a:prstGeom prst="rect">
            <a:avLst/>
          </a:prstGeom>
          <a:ln w="0">
            <a:noFill/>
          </a:ln>
        </p:spPr>
      </p:pic>
      <p:sp>
        <p:nvSpPr>
          <p:cNvPr id="314" name="TextBox 5"/>
          <p:cNvSpPr/>
          <p:nvPr/>
        </p:nvSpPr>
        <p:spPr>
          <a:xfrm>
            <a:off x="304920" y="55627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instructional tool to help students reach their academic goal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student centered, individualized opportunity to learn through the use of technolog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648320" y="4419720"/>
            <a:ext cx="4038480" cy="1977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:1 begins with the student and allows them to expand their world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8" name="Picture 5" descr="C:\Program Files\Microsoft Office\MEDIA\CAGCAT10\j0251301.wmf"/>
          <p:cNvPicPr/>
          <p:nvPr/>
        </p:nvPicPr>
        <p:blipFill>
          <a:blip r:embed="rId2"/>
          <a:stretch/>
        </p:blipFill>
        <p:spPr>
          <a:xfrm>
            <a:off x="5140440" y="1752480"/>
            <a:ext cx="3163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-49320" y="152280"/>
            <a:ext cx="927900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6840" y="205704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 open to new teaching metho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ttend training sess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corporate new technology into your curriculu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C:\Documents and Settings\Janet Ivey\Local Settings\Temporary Internet Files\Content.IE5\IRXQ0KRK\MPj04423700000[1].jpg"/>
          <p:cNvPicPr/>
          <p:nvPr/>
        </p:nvPicPr>
        <p:blipFill>
          <a:blip r:embed="rId2"/>
          <a:stretch/>
        </p:blipFill>
        <p:spPr>
          <a:xfrm>
            <a:off x="6705720" y="1828800"/>
            <a:ext cx="2209680" cy="1468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Documents and Settings\Janet Ivey\Local Settings\Temporary Internet Files\Content.IE5\W1BRBUGO\MPj04423720000[1].jpg"/>
          <p:cNvPicPr/>
          <p:nvPr/>
        </p:nvPicPr>
        <p:blipFill>
          <a:blip r:embed="rId3"/>
          <a:stretch/>
        </p:blipFill>
        <p:spPr>
          <a:xfrm>
            <a:off x="6781680" y="5181480"/>
            <a:ext cx="2170080" cy="1441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C:\Documents and Settings\Janet Ivey\Local Settings\Temporary Internet Files\Content.IE5\MOS2I3ZP\MPj04423850000[1].jpg"/>
          <p:cNvPicPr/>
          <p:nvPr/>
        </p:nvPicPr>
        <p:blipFill>
          <a:blip r:embed="rId4"/>
          <a:stretch/>
        </p:blipFill>
        <p:spPr>
          <a:xfrm>
            <a:off x="6705720" y="3505320"/>
            <a:ext cx="21715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219240" y="96840"/>
            <a:ext cx="8669160" cy="1208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236232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Read your e-mails for update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ttend school and department meeting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sk!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1" descr="C:\Documents and Settings\Janet Ivey\Local Settings\Temporary Internet Files\Content.IE5\093W9435\MCj04419020000[1].wmf"/>
          <p:cNvPicPr/>
          <p:nvPr/>
        </p:nvPicPr>
        <p:blipFill>
          <a:blip r:embed="rId2"/>
          <a:stretch/>
        </p:blipFill>
        <p:spPr>
          <a:xfrm>
            <a:off x="5708520" y="2362320"/>
            <a:ext cx="3095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334800" y="30240"/>
            <a:ext cx="8620200" cy="1384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228240" y="22093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anet Ivey your CTE Department Train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achers in our Business Depart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urses online through Dell™. They 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hor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asily completed at your convenience, and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ligible for certificate renewal credit – an added bonus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1" descr="C:\Documents and Settings\Janet Ivey\Local Settings\Temporary Internet Files\Content.IE5\MOS2I3ZP\MCj00787940000[1].wmf"/>
          <p:cNvPicPr/>
          <p:nvPr/>
        </p:nvPicPr>
        <p:blipFill>
          <a:blip r:embed="rId2"/>
          <a:stretch/>
        </p:blipFill>
        <p:spPr>
          <a:xfrm>
            <a:off x="6934320" y="2514600"/>
            <a:ext cx="20239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2600" y="152280"/>
            <a:ext cx="915516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066320" y="1752480"/>
            <a:ext cx="266724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S !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4" descr="C:\Documents and Settings\Janet Ivey\Local Settings\Temporary Internet Files\Content.IE5\IRXQ0KRK\MMAG00290_0000[1].gif"/>
          <p:cNvPicPr/>
          <p:nvPr/>
        </p:nvPicPr>
        <p:blipFill>
          <a:blip r:embed="rId2"/>
          <a:stretch/>
        </p:blipFill>
        <p:spPr>
          <a:xfrm>
            <a:off x="2917800" y="1676520"/>
            <a:ext cx="5921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1:24:13Z</dcterms:created>
  <dc:creator>Your User Name</dc:creator>
  <dc:description/>
  <dc:language>en-US</dc:language>
  <cp:lastModifiedBy>jaivey</cp:lastModifiedBy>
  <dcterms:modified xsi:type="dcterms:W3CDTF">2010-02-24T15:55:51Z</dcterms:modified>
  <cp:revision>21</cp:revision>
  <dc:subject/>
  <dc:title>Everything You Always Wanted to Know About VCS 1:1 Initiative</dc:title>
</cp:coreProperties>
</file>