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79FA6-16A7-46E4-91C8-3317BE9ED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1B67-3DD4-45BA-AB65-18324F7AD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C164D-CF98-44BA-A2AB-0BE57BC3D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90986-5AFE-4748-8601-130FA61BA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878BD-07D6-4D5B-B4C9-B13C880E3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F2D1E-9A66-4466-B0ED-A557A00EA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99CA2-5872-455E-8BA8-A82F942B6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453CB-8E69-48B7-8B54-EE2DC0C8A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884F1-1368-435F-A887-B038A7662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5A057-2C59-49D6-A806-487179DD7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07DC8-4204-402D-8809-758751A7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6695-7318-45E8-9396-7521A524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96981-D23F-497C-A23C-7BB587F5F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DC9EC-2CDF-4A4E-A206-70D8718E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E9A10-5CB2-468A-982D-447281BCB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91DCD-21A5-4E4A-9B5C-3345307A9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D40AD-2DB3-4719-80A9-48516484C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7983-4608-43EB-8177-F041BA723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1A468-9843-445C-AC06-476DBAEF6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7E3A3-19C6-4DE4-BB82-504EBB46C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EE932-4BBC-41B2-AEE2-638F0373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6465-44EA-44DB-ADDD-D391B02B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EB4A-575C-4E6D-B96A-928C270A3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4184-7959-4682-AFA4-A14AA4E65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F201-9F8B-4A56-8703-93519849D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B521-AE7F-4CD9-982E-BCCE01CD78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ewsletter</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Tall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Applications II</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unning Head</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More familiarly known as a header, a running headline is repeating text - often the title of the publication - that appears, usually at the top, of each page or every other page in a newsletter design. The page number is sometimes incorporated with the running headline.</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ylines</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yline is a short phrase or paragraph that indicates the name of the author of an article in a newsletter. The byline commonly appears between the headline and start of the article, prefaced by the word "By" although it could also appear at the end of the articl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End Signs</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 dingbat or printer's ornament used to mark the end of a story in a newsletter is an end sign. It signals the reader that they have reached the end of the article</a:t>
            </a:r>
            <a:r>
              <a:rPr b="0" lang="en-US" sz="3200" spc="-1" strike="noStrike">
                <a:solidFill>
                  <a:srgbClr val="666666"/>
                </a:solidFill>
                <a:latin typeface="inherit"/>
              </a:rPr>
              <a: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ll Quotes</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ed to attract attention, especially in long articles, a pull-quote is a small selection of text "pulled out and quoted" in a larger typeface. </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mug shot.jpg"/>
          <p:cNvPicPr/>
          <p:nvPr/>
        </p:nvPicPr>
        <p:blipFill>
          <a:blip r:embed="rId1"/>
          <a:stretch/>
        </p:blipFill>
        <p:spPr>
          <a:xfrm>
            <a:off x="6218280" y="3429000"/>
            <a:ext cx="2579760" cy="3219480"/>
          </a:xfrm>
          <a:prstGeom prst="rect">
            <a:avLst/>
          </a:prstGeom>
          <a:ln w="0">
            <a:noFill/>
          </a:ln>
        </p:spPr>
      </p:pic>
      <p:sp>
        <p:nvSpPr>
          <p:cNvPr id="23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ug Shots</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ost typical people photograph found in newsletter design is the mug shot — a more or less straight into the camera head and shoulders picture.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aptions</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caption is a phrase, sentence, or paragraph describing the contents of an illustration such as a photograph or chart. The caption is usually placed directly above, below, or to the side of the picture it describe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iling Panel</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572760" indent="-57276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Newsletters created as self-mailers (no envelope) need a mailing panel. This is the portion of the newsletter design that contains the return address, mailing address of the recipient, and postage. The mailing panel typically appears on one-half or one-third of the back page so that it faces out when folded.</a:t>
            </a:r>
            <a:endParaRPr b="0" lang="en-US" sz="3200" spc="-1" strike="noStrike">
              <a:solidFill>
                <a:srgbClr val="000000"/>
              </a:solidFill>
              <a:latin typeface="Verdana"/>
            </a:endParaRPr>
          </a:p>
          <a:p>
            <a:pPr marL="5727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plate</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anner on the front of a newsletter that identifies the publication is its nameplate. The nameplate usually contains the name of the newsletter, possibly graphics or a logo, and perhaps a subtitle, motto, and publication information including Volume and Issue or Dat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ody</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ody of the newsletter is the bulk of the text excluding the headlines and decorative text elements. It's the articles that make up the newsletter conten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OC</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ually appearing on the front page, the table of contents briefly lists articles and special sections of the newsletter and the page number for those items.</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sthead</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asthead is the section of a newsletter (typically found on the second page, but could be on any page) that lists the name of the publisher and other pertinent data. May include staff names, contributors, subscription information, addresses, logo, etc.</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eadline</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fter the nameplate, the headline identifying each article in a newsletter is the most prominent text el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Kicker</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Often seen in newsletter design, the kicker is a short phrase set above the headline. The kicker can serve as an introduction or section heading to identify a regular column.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ck</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newsletter deck is one or more lines of text found between the headline and the body of the article. The deck elaborates or expands on the headline and topic of the accompanying text.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ubhead</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Subheads appear within the body of articles to divide the article into smaller section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21:24:40Z</dcterms:created>
  <dc:creator>jtalley</dc:creator>
  <dc:description/>
  <dc:language>en-US</dc:language>
  <cp:lastModifiedBy>jtalley</cp:lastModifiedBy>
  <dcterms:modified xsi:type="dcterms:W3CDTF">2010-02-24T18:34:01Z</dcterms:modified>
  <cp:revision>5</cp:revision>
  <dc:subject/>
  <dc:title>Title</dc:title>
</cp:coreProperties>
</file>