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BC4C-BAD6-4704-AFA2-51E7ABB93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applet to investigate what happens as the slope (rate) 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E292-20FD-42B9-BD25-B0E5EBFBD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D63-6009-488D-8B7E-7850A932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608-625C-44C1-8E46-89F83A8D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53D-05DB-4091-919F-BE70E0A0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039-7213-4E62-B30E-B201E08D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4D32-FCB2-4A43-B8FB-9F6FD3F8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E40-5051-4C2F-887F-EA4A618D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270A-843B-4385-AC1C-61043D5B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65F-3B32-4FE8-B77E-37A6FD6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CF5E-0BA7-4701-91E7-01C0D8FF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FDB-EA55-4CC3-AF6E-FC90AAC6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EDA6-58F3-4ED6-A98D-F43D63E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671-269D-44DF-BBAB-4A079D1D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1528-9734-49EF-AABD-1057881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6918-70BA-4E19-A758-15AF7C0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0C95-98D7-4324-B881-DFD48D91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0FF-EA12-4705-931E-336724DD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12F2-D1F3-4E38-8603-C26AB84B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CBC2-A621-4442-8F5A-3796764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7943-BAA2-4856-A1FB-D1DFAD0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00C0-ED69-40F5-8102-8F77B45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FE44-84B6-4C48-8E76-0CE52C2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B9D2-BA11-445E-9A4A-44A656AD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3A0-6D82-43D0-8C89-6A7FA1AC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5317-7DD9-4B98-AAAB-D02F9656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767B-6E62-433B-87B4-7808286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81CE-FC93-4CDA-B577-FB115015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6D1F-D41E-4550-B547-83A4E4A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3E72-4BA0-4667-9A2E-6B4FEB5F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BE41-186F-417E-B86F-2BD015F1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3AED-AF17-4E0E-8FF7-057CD1EC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57A2-6A00-4FD8-8F84-66C2407C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387B-53ED-45A2-8014-BA06D847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5418-B3AB-4DA9-8CC0-9BCF7171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6CD-6F1A-4E93-A4DA-1EBD461B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CD63-5E8E-497C-8C0F-B3E480F2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71FE-96AD-4498-ABB2-941E391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BBC5-8D56-432D-8D48-B745145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C74A-2F74-4EF3-97B3-312500A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EDB3-E4CE-4C4C-A20D-14E0A22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EE51-0559-45EC-9CE3-ABC6E8C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0EF6-7187-4F46-A9D0-1D5081C9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866A-4785-461B-A7B7-2B82D78B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FE27-0573-4AC4-84E5-350115E5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5A22-C3FA-4A97-B8C1-2166AE5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1F2-F8A7-4716-8202-7C90F86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F054-8AD0-4C78-89BD-B10F7C9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59B8-FB99-47B1-8441-E854DA3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82E7-366F-48D8-A7B7-32362455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4B4C-3CC0-457D-A730-8C8A2AD9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B6AD-981B-4AC1-BAA3-2170424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E573C-89CE-4839-800C-C2DAF1F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33EF-DCCB-469A-8998-DAE9426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9E32-1FC7-4272-A897-987BA15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569A-1D8F-4E3C-B780-F7E0980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4A92-5AA3-43B6-B73E-75BA0631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96B-0547-4D50-B4D0-C783581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6581A-112D-4625-8068-7D12062D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602A-6671-4A91-B07E-1913C5CA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13BF1-0DC5-4A6C-9DB6-CF4C6901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FC6D-02F0-4B3B-8BCE-D361933D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B36E-85B8-4D8B-86EE-B599D4F4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0E82-6B75-461C-8CBA-5BB506FC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B979-51E3-4275-A699-B22F6B46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783B-1CBB-41E5-BA4A-5827F7D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DF9C9-A646-46CA-A181-9C5C4FE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28C9-E4A3-487C-88E7-0E5CD49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8E5-CB3E-4AEA-809B-71F029A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34E1-70E4-43C2-AD0E-4F3136ED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478B9-CC6C-42B6-9753-9BD4B279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6946-2377-431F-975C-6C32C907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FF0E-772A-4CA4-B79B-71668F95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84276-29A8-4DD6-9270-AF1967AB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A790-3C9E-439C-897F-E04EF63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C686D-0B77-441A-B736-FE4A67C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0F8F-9211-4BE8-B616-3AD2EFD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30B4-57D5-41EB-B5DE-23BBD103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2125-FDCF-4F53-9F6E-1B6D68E6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5DB-31EF-435B-9A92-75CEF8DD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8528-D10C-4132-A0C0-8FDF3A95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2FEA-282B-43C6-A2B2-A4090C2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8650-0E06-4ED6-B1C0-A7FD799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15A1-C5A5-49D7-8F90-4611976A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42AE4-ABDB-40FF-9955-18C77A08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018B-88E7-4953-BC20-E37178EC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41909-24DF-4EC2-8206-03656D4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A805-4B53-4097-BD99-9B382D84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7935C-E13C-44BC-9524-C6E03931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524F-71FF-419A-9B3E-A9B977E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5B4-500A-4D5F-B078-5F51E007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234A-828C-480D-B061-5A22DC6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7E72-78BF-4F82-A90B-AB63D47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5F40-69A7-4EB0-B61D-EBA0669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52DA-B7E9-4AF5-868B-28E7ABDF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D0D4A-3DF6-4F2C-A2E2-9978269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D947-7711-45FD-A026-EB7CEDD9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4C6F-9D90-4E43-8B93-57CFE37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11D-33A2-49F6-8586-C7E3100E9D7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A3EF-F008-4C74-A278-551C4B7C557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98C-E221-450A-9285-109B668FDA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FA8-E5D4-4511-A378-DA9A625060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B30B-1AA3-4888-BB0F-6F58A62EAF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1F2-16AF-4C11-8610-CC0F4B289F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92D-9284-4157-99A6-7287E4407B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0E4-BE2E-436F-80D8-03BABDFA940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nctm.org/document/eexamples/chap6/6.2/standalone1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125151&amp;title=Slope_Dud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832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hat is a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i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a proportional relationship between two numbers; one number divided by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 The relationship of one measured quantity to another measured quantity; a ratio between quantities with different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lop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 rate of change; the ratio of vertical change to horizontal change on a coordinate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standards.nctm.org/document/eexamples/chap6/6.2/standalone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eachertube.com/viewVideo.php?video_id=125151&amp;title=Slope_D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What happens to the graph of a line when the slope increa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What happens to the graph of a line if a slope is negat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What kind of line has a slope of zer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What kind of line has an undefined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5:50Z</dcterms:created>
  <dc:creator>vwindley</dc:creator>
  <dc:description/>
  <dc:language>en-US</dc:language>
  <cp:lastModifiedBy>vwindley</cp:lastModifiedBy>
  <dcterms:modified xsi:type="dcterms:W3CDTF">2010-02-24T18:43:48Z</dcterms:modified>
  <cp:revision>13</cp:revision>
  <dc:subject/>
  <dc:title>  Rates of Change </dc:title>
</cp:coreProperties>
</file>