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BBB8-5DAD-472A-8AD2-2FA26B7F1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applet to investigate what happens as the slope (rate) 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3F3F-58DB-4D4A-B3EC-77CF8F26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030-7B57-4705-A370-B0E51844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F1D-4ACB-4650-8707-CA3BEC9F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39B-91F8-484B-8392-C4540EE8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8D2-0261-4BF5-9C9D-C195E60F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07AB-ADD2-4027-9C3C-366FE5B2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FAD8-70AA-40CE-8EB1-54830A9E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9372-A01A-4260-A80C-14B524D9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983C-5FC9-41F0-B43E-FACF3B0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428-A2AF-4CF9-8A21-373CC89B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7E39-7D2B-4C5C-9689-01C4A6B0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057-274F-4907-9E3D-C592003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466-764D-4459-877F-99F9AB6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CDFD-E86A-4638-BF02-28F4639A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B36-D0F0-4DD6-8212-4AEADD3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CEE-883E-4705-BA12-CD56C00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0270-6989-464E-A1E5-B8714E44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70CF-627A-4E8E-AF6F-5261645C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B71C-0BC2-4C5B-A136-5FBEC9AA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4550D-B1F1-42CF-ACC8-67B5A69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1BE5-D243-4C17-9FB6-B7AAA8BC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9E3F-B1C9-4684-83E9-DAC1D6F4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7A53-3141-4820-8FEF-29ADDB0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9D0-B56B-4F35-AF1F-2FEA5739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78BA-04D4-4511-9246-2886DB29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F92C-FF3A-45DE-8784-E89D302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EAC4-95DA-4228-9B55-6EEFADB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9CA7-495D-4E47-AFB1-5BC779A3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0127-96F4-4DFF-B9DB-CB6E54B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F0804-3437-499C-BC24-54966B02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E4A8C-D2C4-4088-BEE8-E469613A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449D-86AC-4C34-9F0F-F59B4562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11B0-9F79-4560-9A0D-CCD58F10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6E94-E486-46D3-A089-740359C0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86C-9B9A-4B0C-AD0F-D2D2F7C9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2888-64A9-4150-BD6E-4255037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B9A4-88BA-4991-B95B-6177140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CCE9-2ECC-48B3-BF00-24E38D91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DB4C-8412-47B1-8CDA-102024B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2BB6-AFF3-408D-80EC-37C236D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B701-4D44-488E-8741-7F904F97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3EB4-1F66-4F15-983A-3F2E366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E399-D536-4373-8850-2929CC5F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416A-D7BB-4EE1-84C8-88F34EED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F9966-2BF9-48EA-B821-31CEB4D9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040-9E5A-429D-ABC8-38A5B3F8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43B5-E5D7-4A75-9914-DA3823D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C8F1-B0D3-4ADA-9FC5-4ABEA3DC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B3841-CFC5-494D-A3CB-AFF4573B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B9B1-60B0-48C4-96E1-0079BBEE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DA948-A83A-42DE-9CDC-35D569ED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35747-D1B2-4E7A-8FC3-44BCDFF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1A194-3E4B-404D-A038-D1E34F97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2E4B4-CF1C-46AD-BA4C-41670EB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AEE3-4C5D-4B41-8B2A-841EFED1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A70BE-677A-43C7-935E-458DA6EF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A1D-553B-48B8-9CF6-17CBD13D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FC6C-4DC5-461A-9724-6C492707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8ACF1-FDFD-4A28-B5BB-0B2F6FEB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D4689-C398-49CC-A8C1-942C67B2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8CDC8-088F-4094-9B79-168C7FC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33EC-A039-4C7E-88F1-C3C59F7F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6B59-0F2E-4435-94C1-79133D62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7BAF-96B3-4C46-B367-1B4E5A35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86A48-4A3F-4D21-831E-96746BD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CA9FA-7FA7-4F22-8761-D02F82EE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45ED0-42AE-43A9-8127-60FDCF3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89E-85CE-4760-A42B-AAAA024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885B-1E50-47FB-8B06-362F4BD6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DB68E-0C30-4BE8-9E95-C46686B3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7C8BB-33D9-4BC9-ABAA-04AFA61F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6D35D-6DD8-452A-B224-F6F16CC6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B821-4635-4C19-8C25-F54743F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27B1B-27A6-43A7-9F27-0CF8155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6CBCC-ED03-490E-8AED-BCC8AB8F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6620C-D042-4C7E-AE9E-04AF8F7F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E4556-3937-4A79-9F5B-481CBF0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20919-CB93-4D81-9101-E1C7E6E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006-C9A6-4416-96B7-7EF3684E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BE0A-862A-44F6-AC1F-C42C1BBE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5BAB-6E2B-496B-B34E-96E4F37E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34472-9C51-4CEE-83C6-BC2A1BC5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8D862-8789-4239-9A16-77B78938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C5E21-9D70-4944-855E-7091FA8D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4DFE2-5429-4B41-9D0B-A91869B2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8D673-D5F3-4889-B7AE-7C6FE57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4DCFF-4749-46AE-ACB6-1B89728A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E4E7D-0F27-4623-95F3-2DE9873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68268-36B4-47E8-A9DE-EC4E7D6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80B-D516-401F-9347-AF4E44D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275FA-C232-4C34-909D-92EAD2F0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5675-D075-459E-9C3F-FC35A5F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0A00E-CD3A-469B-BAC5-A5B1369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205A-A8BC-4602-A5CA-FC82DC00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0ED25-0CCA-492C-9D21-DD9BD694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85ED-BDA0-4367-A374-41D694B2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41524-573C-48A8-9737-66C60AD1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870A-691A-4B18-B6B9-E54BB2E5AD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B30-0118-4473-9616-2BF01B492C1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418-0398-467E-9145-1681ECBE29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A2C-2D58-4363-9EBC-2844D6C4A9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86F-9647-4922-8ABC-11AF376B09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6361-8F2C-43E0-800D-43005D5A1F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AE9D-7631-48E8-A07F-3E0A8612120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87B4-5A18-4A14-B48A-63B57066E77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nctm.org/document/eexamples/chap6/6.2/standalone1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125151&amp;title=Slope_Dud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832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hat is a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i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a proportional relationship between two numbers; one number divided by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 The relationship of one measured quantity to another measured quantity; a ratio between quantities with different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lop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 rate of change; the ratio of vertical change to horizontal change on a coordinate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standards.nctm.org/document/eexamples/chap6/6.2/standalone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eachertube.com/viewVideo.php?video_id=125151&amp;title=Slope_D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What happens to the graph of a line when the slope increa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What happens to the graph of a line if a slope is negat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What kind of line has a slope of zer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What kind of line has an undefined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5:50Z</dcterms:created>
  <dc:creator>vwindley</dc:creator>
  <dc:description/>
  <dc:language>en-US</dc:language>
  <cp:lastModifiedBy>vwindley</cp:lastModifiedBy>
  <dcterms:modified xsi:type="dcterms:W3CDTF">2010-02-24T18:43:48Z</dcterms:modified>
  <cp:revision>13</cp:revision>
  <dc:subject/>
  <dc:title>  Rates of Change </dc:title>
</cp:coreProperties>
</file>