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0.png" ContentType="image/png"/>
  <Override PartName="/ppt/media/image11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52492-D890-495C-9195-6DA514397D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 the applet to investigate what happens as the slope (rate) increa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62791-5627-4907-AEBA-0310559B89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9E0F6-C7C6-47BC-B6CB-EE5E8C1FD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C6FB4-21DD-4641-B600-7BF318E9A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77A25-E8C0-40AA-AC53-B9F2DD21F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B6AD1-2378-4E63-A53D-76F41DB8B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D05FA-5196-4B22-8B64-4C7AB517B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A73E7-20D9-4590-BC22-5B1F4280C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B66BD-B146-4729-AA1C-FC9E06589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9CD53-CBCA-4E4D-A18E-2735128C0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70DAA-DD6D-4290-AA17-D63722F2A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7C14D-108C-45FA-BD0A-01616FA26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1DC33-004E-4384-8B54-1A2956E62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0727D-B402-4AC3-9036-86C969C5B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48419-3B87-4338-BD39-873A72B4F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F505B-764D-4854-94DE-A15E2FFA3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768A9-6262-4A21-AC75-4A11003F2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C3717-3B65-4FB1-ABAF-7491B49DE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5345E-A874-4CB9-8CC2-EB3F51B8B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05A4B0-795D-412D-89E8-349BFF0BB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710B20-D663-4EBF-977C-3E3C64F03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8361D0-78CA-410A-9131-B04642760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9B8091-A1EB-41A8-BF75-F050FBF3A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1FA1B2-4332-443F-BCFB-C3270F801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1D34F-AF30-44CD-A5C3-62C9C946B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E8C475-565F-4FFA-BE49-B07DBEC51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D7BF68-9D4B-4EE8-B673-EE5890F9C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CCABAA-A830-4756-AAAF-56140CCC0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CAAA92-1E2D-4BA3-80E9-0422E6CE5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69B0A6-000F-4A53-B6A6-D30CF93FC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2E8576-805C-45B1-B354-59CF5CB60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9E21EB-9487-45A7-88E3-E4F34B14F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38AAB6-32C6-4097-B5D1-313336E16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FF3D12-02DA-448C-B21F-E7203F348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C108F1-E1E7-4FD6-A1A3-74CA1E84E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692BC-3FEB-4965-9C7D-82B87587B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8F94F3-CEC1-47AF-83A6-DFA4F6306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D4EB26-86E1-41C1-BFB6-BDF20CF67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F46BCE-84DD-40D5-864C-74981CE87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FEA011-225A-433F-9B36-6E764AE6B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3BCDA3-D05E-4B89-A3E7-4B5C34187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B5D681-3341-4D0A-904A-C0CF3D624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21B104-D9F7-4E00-BEB3-561E69B2D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1A4D56-EAC6-4937-B108-877D72D90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F04BD6-1989-4A30-96BA-72F67B86D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C9479F-E261-4139-B4F2-C8E2DA71C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44681-E7F9-4E17-AAF8-A0B68EDB6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CD3BE1-8F26-420F-B07E-E1950F5C8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FE5A97-36D5-4DD1-8169-3CFF5AA61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BF99A9-7252-47C7-9719-08D567008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03B86B-49D3-4C53-97FD-5E678E163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EF0711-CC11-4BE7-A3F5-79E0FC491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20F060-05F5-476D-9D0E-B7E098953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5A576D-BD90-4B06-9DEB-2F3DB262B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DF5190-1CF2-4419-9768-B9F254A08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51BC4D-2A27-4EB4-BC14-92254B324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7166EA-8FC7-42EF-B933-BCB79392F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E74ED-731C-43E6-B9BF-241A64B30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695B44-7DC7-465F-ADBB-997CF3E23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70E3F1-68F9-4966-AF97-32D9C1F17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F384FB-8130-4059-8FD8-3F9059EE9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E2130F-BE94-45C0-8C5A-AB498C68E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6DCDE0-3D5A-4949-A15D-7F12A2375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AB68E0-3C50-44B1-A34B-2569DC667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157B98-E5FE-4559-B924-8AD9D0CBD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556378-7B99-4400-B098-B525BC7B0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C115B9-2B1D-49F8-BEFB-0308EDC5D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95590B-164C-4120-AFB0-D361B739C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1DF2E-680C-4763-8AD6-8161952F2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5DAA6F-19B6-4F2A-9CC6-7B90D61DA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860BDB-F208-4CF6-B0CE-18B1CE168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91562A-E686-4397-9048-1804B69D0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7611EB-F614-4F0C-A17E-944FA07A2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56050C-37D1-4D47-9ED8-26EBDDE6F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1F649D-2CA3-46CB-9D9A-4C7BAB77A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B431C8-3FCC-4A27-B1C8-63093E767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168970-196B-4098-91F6-33DC6D942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28AD23-5CA9-4FC0-8C51-411238C2A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49122C-2139-4D5C-BA78-F6069211F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193B0-875C-4C48-970F-7D6F0B930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2D847C-86D5-4401-BECF-73BC0A101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3DF6CF-26B0-4848-AE30-51AA9F6AA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52AF39-C35A-479C-9F5F-DAD5069D7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8F9032-C44C-40A6-B074-390676DE2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A57624-241E-47BD-87FB-3432E46C3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9C3132-78DE-432E-A917-550F9D1A2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83A502-A4D5-43B0-8361-4AB5A9B9B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822A0C-8646-419E-9879-D66C78C16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079B13-78B9-4085-BEFA-F27390FC8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BE74DA-917A-46E8-A05D-FF00E2C85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61DCF-D94A-473E-8972-9AF922471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24961E-DB46-4B3D-AC5F-C9B02A627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73A6EF-0D91-44C3-A277-75581978D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6229D5-D571-473E-9019-506BA3B97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194C00-3650-4F2D-B67A-2DFD82AF7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2F5174-50F2-4B4E-9C98-A9997EAA2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CEAB2B-252B-4355-807E-E28760E03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FD1581-F1C6-4D58-B466-4071F7030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66A9C-EE76-4493-84EC-6E74762E7EBD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00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5360" y="5236200"/>
              <a:ext cx="9092880" cy="78660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6600"/>
                <a:gd name="textAreaBottom" fmla="*/ 786960 h 7866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A5A45-6AC8-49C5-88DE-9CA94745D44C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3C979-E1C3-4CA7-8BEC-58168D5C5F01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FD806-BA3A-4C1A-86D2-3C8B53D29173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C2A54-7F92-4236-A0E7-3703E48E2D6E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E226E-51AA-4070-972C-76672F080E74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EEAD7-DE50-42D9-AF70-E8F315BD5143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97EEF-C7CB-41FC-BC4D-D1D77B3531AE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standards.nctm.org/document/eexamples/chap6/6.2/standalone1.htm" TargetMode="Externa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teachertube.com/viewVideo.php?video_id=125151&amp;title=Slope_Dude" TargetMode="Externa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Title 1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7832880" cy="184140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What is a slope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-0.33333 E">
                                      <p:cBhvr>
                                        <p:cTn id="6" dur="2000" fill="hold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Lucida Sans Unicode"/>
              </a:rPr>
              <a:t>Ratio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: a proportional relationship between two numbers; one number divided by anothe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Lucida Sans Unicode"/>
              </a:rPr>
              <a:t>Rate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:  The relationship of one measured quantity to another measured quantity; a ratio between quantities with different measur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Lucida Sans Unicode"/>
              </a:rPr>
              <a:t>Slope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: a rate of change; the ratio of vertical change to horizontal change on a coordinate graph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0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20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20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2000" fill="hold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2000" fill="hold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2000" fill="hold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2000" fill="hold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ff8119"/>
                </a:solidFill>
                <a:uFillTx/>
                <a:latin typeface="Lucida Sans Unicode"/>
                <a:hlinkClick r:id="rId1"/>
              </a:rPr>
              <a:t>http://standards.nctm.org/document/eexamples/chap6/6.2/standalone1.htm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2" name="Title 2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ff8119"/>
                </a:solidFill>
                <a:uFillTx/>
                <a:latin typeface="Lucida Sans Unicode"/>
                <a:hlinkClick r:id="rId1"/>
              </a:rPr>
              <a:t>http://www.teachertube.com/viewVideo.php?video_id=125151&amp;title=Slope_Dud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4" name="Title 2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1. What happens to the graph of a line when the slope increases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2. What happens to the graph of a line if a slope is negative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3. What kind of line has a slope of zero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4. What kind of line has an undefined slope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6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3T02:05:50Z</dcterms:created>
  <dc:creator>vwindley</dc:creator>
  <dc:description/>
  <dc:language>en-US</dc:language>
  <cp:lastModifiedBy>vwindley</cp:lastModifiedBy>
  <dcterms:modified xsi:type="dcterms:W3CDTF">2010-02-24T18:43:48Z</dcterms:modified>
  <cp:revision>13</cp:revision>
  <dc:subject/>
  <dc:title>  Rates of Change </dc:title>
</cp:coreProperties>
</file>