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0.png" ContentType="image/png"/>
  <Override PartName="/ppt/media/image11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270C9-8E93-4F00-BB60-506F079A4F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 the applet to investigate what happens as the slope (rate) increa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E21EA-E924-4899-A504-BBE1A7E228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6EB3E-AF9C-4658-9BC1-E22A35D61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4C173-EA8A-4DA3-BA58-B1AB2A084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8E10E-DC00-4F13-AFEA-7460BCC00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CCA03-6114-4D06-B102-0AE3C1D9A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585E5-7CEF-4725-8B1D-67479571F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7AA91-BC8B-41D4-BC2C-42D721CC8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5766B-FB91-4EC5-8346-8D5A27AD5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7A161-FA6A-41FD-A2FE-BB13E13F0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A3CB0-714D-4AA9-997E-A0CFF8689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D3CD7-3AE4-4EE0-B4A9-E1C8382C6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EDB75-78D4-423A-92F0-44F653D2D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D5971-15BC-4795-AEDD-5FC856BC1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51687-001D-4B68-ACDF-BFB0909EC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9047D-0C76-46BC-9EF7-736734B39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D825D-F4D2-4FC6-809F-F545C1BAD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AC164-9059-4AD8-BF85-E03E046E9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78DD0-CCB8-40FB-88F4-90193A846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F1B0F5-1238-4D6C-84B9-E1C9F3160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8201A7-EBB9-48B7-93ED-B28B8190B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939616-5C2B-488B-B4BE-7178AA2D0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AF43B9-9FBB-474E-930D-C3259E4C2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84C452-3AD5-487D-AF79-85EA23409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2B525-60E1-4C72-AFF7-186E712A2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7E77EB-868E-40D6-B0E1-4B3CBB8BF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3C8BA7-48F5-49F8-AC9D-66ED71923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2F9B11-F0DD-468F-B33D-6726571FA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0966B8-BB91-4794-B094-E861F9231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A2D361-86CA-4BDD-B76A-20B70E6C7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784FBD-43CB-4624-8312-E5F2F6630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97808C-168F-4252-A547-923AA1BEC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52EED0-88B9-4E49-880E-AF2277C83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0E604E-7FE3-4B05-98A3-CBAF0AF55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9AEED0-7261-4E89-84F1-C5F3916DD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47AF3-6569-4C56-B505-B986CB2DC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004806-9DA9-4E09-A382-3CDDAFA1F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13182B-BDBA-4E99-AE4F-A00610A5A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7920C3-56F3-4836-87ED-57118E6E7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925B30-677E-4D8C-9A09-5E8E40DC9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E095A4-9AFB-4473-9C01-0A4417D25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39E68B-F227-4A8D-A453-5556F0EB0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2DAE19-2FBC-442D-B54F-40886EAA5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43504D-703A-4896-A8A5-76ACE0581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A1B248-9755-4DB6-84B3-9CD9A7F50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EB5FF2-A694-4322-B608-809070EAB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2E3FC-13C5-4D7A-9F57-B9BC1C516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599A67-7BEF-4615-B359-66ACFD363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181982-5CF7-49A0-908C-82886C307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4BE62F-EB0A-415F-A6B6-A400A4182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5AE983-6A5B-4420-BFA4-DA4832F72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5FDF53-86D3-4123-ADE4-72423F68C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32468A-2C10-4A85-BBB0-A4F79D94E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1ADC31-9B11-4204-BF3D-D68A0ED64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84DA42-5062-42C0-840F-7731AC0F0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10A0C6-C0F3-41BD-9327-04E5168DD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7DD732-1789-4DEF-9464-1856A7C48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8DDD0-29AB-4316-AADF-D49780063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56B25D-9866-44FE-B0B3-0C2B994F5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8C6FAA-E6BB-4FC3-8F40-616AB3260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A32CA6-C033-47CD-9F94-FE51C1260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163F6A-8074-4FC5-A41E-8E2E9EF6C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121C3A-A9B4-4D35-A83D-DFB5B2BAA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493C12-5C1F-44F3-9C92-251BCBFA8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655EB8-E787-47CD-A7B9-879EFEFFB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18070F-A4DA-4C23-A060-E42B84A35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D3CC1A-8967-44A7-8FAC-B11C2FCB2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DE84B0-A20E-4AAE-B545-4A303EEB4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9EB0F-6776-45C9-8A80-5A7D84C55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7AF1FD-FF2F-4EF2-8655-D03C8670D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5F1DCA-FC6A-454C-9D8B-5A75A17A2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D9F988-952E-490E-8BBF-779A187EB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255B19-9C6E-4A6E-9187-DF53A61E0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E53E80-38CC-4351-8B39-7B89643BD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A0BF16-91D3-4755-9535-89E726CAA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4C321E-0B80-4AE9-8847-83180DA91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0123F4-A1B0-4A51-A534-EF58AAF47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082D40-DA61-4B76-AB31-78EC856B0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4DB900-DB80-495E-9ABA-6C807798C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456B5-C2C4-4968-85A9-47AE36C49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D2A29B-7C8E-43C0-ADA7-9447A5208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93265E-CC2F-4C74-9CBA-9DE75F6F9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743A95-7E1F-44FA-873D-6E02B78ED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78092F-C7FC-410B-ADFD-A4F5C2758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1A5958-5593-4497-B88F-6ECAA7850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B6B3A8-F9E4-433B-A594-88F8FC212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805084-BBFE-4A3B-BD4B-22A53715C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6BE9FB-FD09-47E0-9CCE-428FF3804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4570C8-C1F7-458E-8DDD-115DF971C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9DF983-476F-447E-B09D-F54D0D156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52FA4-3E7C-4E79-8397-DE76B5852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040C7A-90D1-4529-9939-1439368E3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ECEA33-63DE-4AEC-8B66-7EE38A367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6372E0-1A23-42EF-8426-3D2FAEE33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3FEC55-89E8-4D37-94B1-747557DF1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4121F4-845D-4AE6-BE4E-05A8C6EC3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6A36E2-3098-4AFE-9FCE-9B49192DA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1CCB6C-9B27-4068-BA3F-B7A21B33E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BB504-AEE9-4AE4-98B3-7794F62C9E8E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00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5360" y="5236200"/>
              <a:ext cx="9092880" cy="78660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6600"/>
                <a:gd name="textAreaBottom" fmla="*/ 786960 h 7866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C2F4A-E059-452C-893F-A712DA950ED8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73E47-A162-46F8-AD40-CAD3DD8152CA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3AF6C-B0D6-4E0B-B788-891118E7F001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3A2DB-7C6E-4EB6-A378-083290D45F8C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8365E-A779-460A-8D02-1295CCFF7F7B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7B6AB-9E78-42A4-B0F6-EB02A695C0FC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DA86D-62EA-4A36-A750-91C10ECB62B6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standards.nctm.org/document/eexamples/chap6/6.2/standalone1.htm" TargetMode="Externa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teachertube.com/viewVideo.php?video_id=125151&amp;title=Slope_Dude" TargetMode="Externa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Title 1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7832880" cy="184140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What is a slope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-0.33333 E">
                                      <p:cBhvr>
                                        <p:cTn id="6" dur="2000" fill="hold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Lucida Sans Unicode"/>
              </a:rPr>
              <a:t>Ratio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: a proportional relationship between two numbers; one number divided by anothe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Lucida Sans Unicode"/>
              </a:rPr>
              <a:t>Rate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:  The relationship of one measured quantity to another measured quantity; a ratio between quantities with different measur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Lucida Sans Unicode"/>
              </a:rPr>
              <a:t>Slope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: a rate of change; the ratio of vertical change to horizontal change on a coordinate graph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0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20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20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2000" fill="hold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2000" fill="hold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2000" fill="hold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2000" fill="hold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ff8119"/>
                </a:solidFill>
                <a:uFillTx/>
                <a:latin typeface="Lucida Sans Unicode"/>
                <a:hlinkClick r:id="rId1"/>
              </a:rPr>
              <a:t>http://standards.nctm.org/document/eexamples/chap6/6.2/standalone1.htm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2" name="Title 2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ff8119"/>
                </a:solidFill>
                <a:uFillTx/>
                <a:latin typeface="Lucida Sans Unicode"/>
                <a:hlinkClick r:id="rId1"/>
              </a:rPr>
              <a:t>http://www.teachertube.com/viewVideo.php?video_id=125151&amp;title=Slope_Dud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4" name="Title 2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1. What happens to the graph of a line when the slope increases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2. What happens to the graph of a line if a slope is negative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3. What kind of line has a slope of zero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4. What kind of line has an undefined slope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6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3T02:05:50Z</dcterms:created>
  <dc:creator>vwindley</dc:creator>
  <dc:description/>
  <dc:language>en-US</dc:language>
  <cp:lastModifiedBy>vwindley</cp:lastModifiedBy>
  <dcterms:modified xsi:type="dcterms:W3CDTF">2010-02-24T18:43:48Z</dcterms:modified>
  <cp:revision>13</cp:revision>
  <dc:subject/>
  <dc:title>  Rates of Change </dc:title>
</cp:coreProperties>
</file>