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9D27-47CC-4D8B-B843-E2587629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applet to investigate what happens as the slope (rate) 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43D7-4448-48FD-81F8-F8C0D03B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D15-E35F-4E7F-B7F6-F65E53B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3F7-8D08-4C14-9BF5-C57A495B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C4A-DE0A-45D7-AF3C-D7E3240A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08B-1942-4801-ADBF-F9455D3A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BC52-C4E6-4F48-B32D-CAA7B96A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B75C-1357-4325-9D5B-EB52F50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7284-8F56-478F-A485-9FA8B724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943D-3A99-4276-AF86-A904565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D648-56D2-4199-B8EF-EF46DAC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DAE0-DDA4-40CC-9077-AC81961E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2901-11D1-4C0A-A5F7-AC9DA7B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C1D-EF70-4769-B9C1-D22F309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7C1C-0189-4872-9B2A-DAE6BE6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AC44-57D8-46F8-A980-4032DF9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47B-76A8-4250-9DDA-8BAD7AC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417B-2AC0-4CC6-9F9C-9F17464E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E08A-15EB-4CC2-9443-D212EDF0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8CC0-2B29-45EF-88F1-09D97B6F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2EF8-35FF-4619-A80D-0507F89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5B36-F584-43C9-A656-E39F09B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C094-5084-4D8C-9CE4-E28ADC8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BB35-C1BF-4D7E-8462-493D429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567-B279-4945-99E6-19C8B63B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617F-0416-43F8-BE9F-6FE89C8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1E29-047A-4FED-80F6-58096398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5ACF-869D-4075-B426-EC91F78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FF7F-B75F-449E-A93B-0936C37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48CB-C196-4D35-BBAF-10E23E40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D374-49DB-4B08-8605-36A7AE1D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DC30-CC0B-4149-AC33-790BB4F0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AF57-EF4B-4489-AAF9-710F0382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EF11-33BD-4D1A-AF26-2685C04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56E9-4EF2-4683-A270-843E08B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821-79E1-42AA-949A-77DBE83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EAF6-0F84-47F1-9BA7-7441F51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FD63-1E6F-4482-A18C-669725D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EE64-6A50-41A9-9BA7-F3CF9E05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0CBD-6EB1-4544-8D91-7F0D1F1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CAEBF-D0F2-4C02-950F-FD63ABC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FB510-DDBE-4A25-9493-E896890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12DF-7466-446E-9C7E-7C6E0175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B65D-318B-46FD-9E14-A0C6C4D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767E-8A97-4303-81C4-16609410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63A3-53F5-4A71-B426-A6B194F8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CAC-AF7C-491D-8B09-AB09918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48D8-5F91-4F9F-BECF-4C31CAE0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C9BA-AFB4-45A7-9D82-55D24830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5BB8F-FC9A-4A84-8217-BB927D0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75320-9555-4229-BB45-5191DA0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1EB15-D5AA-49EF-8399-0EE3443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A2D29-B29B-4C6A-94C6-AE8A6B0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1081-6C9E-4685-9662-D950708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0381-ECD5-45D8-B58C-67943E6B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EAE3-F41B-49FA-BC8A-5B3F442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285C-5FAA-40C0-A427-17921C6B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981-7EBD-4CCB-8616-547D452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92380-E239-4549-84C5-72682550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D800-3CF8-4E36-89A1-075464CC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429E-8221-4CDA-AA48-CE4AD2E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945A-9A7B-4DAD-9CF0-9B39355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B7FE-9D3C-4F9C-B0D4-206E1BD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823B-8BFB-4C79-9BD9-561CE75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E5155-335C-44F5-9999-4783EA7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47B5-422A-4371-B7AC-7890261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3021B-C299-4CC9-A62C-6BEEB333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5D31-282C-4823-9015-53715E9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8F6-1933-4D85-8847-19FEEB4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AFC4-53C1-4B49-BC23-04B2B902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496D-C769-4EB5-9053-A01E03D0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90AE-7ED2-4CA6-803A-96266CCD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7BC5-D049-42B0-BAD4-C1FAA50D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A145-5DB4-4E6C-B1FF-8D3AE8AE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2978-3032-4335-B83C-7275A0C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8756E-ACC7-480B-98F4-D9120F8A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4B8E-653B-4437-B606-44BAF21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B1943-9E99-435A-95F2-FCC6AF07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CA26-11FE-4FCC-A1D2-4182BDA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47B-1F74-4669-A9C9-271F205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4D900-ECE5-439E-94F6-2598A6E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013D-B070-4514-8124-304FCC1A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C49B-D6B5-4E85-B83C-0D9412D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D5984-77E1-4ED2-9612-CB4C70B9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8EAD9-E498-4BBF-895D-A071E7AB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35679-E7BF-4DB1-8C05-37A059DA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2745-C164-492D-8A6A-CB5739C3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4AF5-6F49-4169-B2E8-26686C0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0B4A5-7831-456B-B4CC-5E624E1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6626-139C-4635-910A-199B6E9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B3A-2061-488F-82ED-3CEE697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91A54-C073-4601-9A2E-434B1D4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85FA-DDDF-4433-9B87-B3BD6AB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A510-6C59-411A-8CCE-3EF08B6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65F64-8B31-4840-9944-6E612752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0FFB-088F-4BA2-B600-CC85E6A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9AAA-52E4-41F3-A39C-A13DB0A9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99DD2-5141-4DCA-ACC9-B359A1A9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5750-C228-4BE4-B0AC-5DCDFF675D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AD4E-55E1-461F-B36A-268748FBCEA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580D-F859-45AB-89CF-9FBBBE316D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27D7-1B05-4FC5-B6B6-C698C0EADC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01F-B256-49EC-8E63-7E7253064F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AE78-8748-4306-95C8-409699E0AE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C00-7050-414B-84FF-A7AED8E6FE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55B-683F-44F4-B097-EB2211D58EE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tandards.nctm.org/document/eexamples/chap6/6.2/standalone1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achertube.com/viewVideo.php?video_id=125151&amp;title=Slope_Dude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83288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What is a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i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a proportional relationship between two numbers; one number divided by an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Ra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  The relationship of one measured quantity to another measured quantity; a ratio between quantities with different meas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lop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 rate of change; the ratio of vertical change to horizontal change on a coordinate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standards.nctm.org/document/eexamples/chap6/6.2/standalone1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eachertube.com/viewVideo.php?video_id=125151&amp;title=Slope_D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What happens to the graph of a line when the slope increas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What happens to the graph of a line if a slope is negativ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What kind of line has a slope of zero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What kind of line has an undefined slop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2:05:50Z</dcterms:created>
  <dc:creator>vwindley</dc:creator>
  <dc:description/>
  <dc:language>en-US</dc:language>
  <cp:lastModifiedBy>vwindley</cp:lastModifiedBy>
  <dcterms:modified xsi:type="dcterms:W3CDTF">2010-02-24T18:43:48Z</dcterms:modified>
  <cp:revision>13</cp:revision>
  <dc:subject/>
  <dc:title>  Rates of Change </dc:title>
</cp:coreProperties>
</file>